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9B0603-0E48-461B-8FD6-361C4D7E70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F4F1E-3CB9-46D8-9D24-7AEFCECF12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F3B60-A928-41E6-9B58-5C9D6199E6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D055-BC1C-4CE4-94BA-029C85B5EB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2B49C-288A-44A9-988D-B425A045E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C8FB9-E05F-4AFD-BEE5-504A0BC69F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DFBC0-27C7-44DC-B8E0-2F4379A9BD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C80E4-9226-44F2-87E2-620D162223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FEFFD6-BEDC-45CE-83A5-FD259867A2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67CED-3282-4601-9BA7-949277647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CD762-7E3D-4D3F-97F1-FD03D9005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A9510-73C7-48B4-AD3C-7783FD7FEA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  <a:defRPr b="0" lang="fr-FR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fld id="{387DBC01-0370-4A8B-9FBB-196506455691}" type="slidenum">
              <a:rPr b="0" lang="fr-FR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340200"/>
            <a:ext cx="82296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6840" y="1604520"/>
            <a:ext cx="8047080" cy="3978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Arial"/>
              </a:rPr>
              <a:t>La démarche qualité en pratique dans les dépôts d'urgence vitale et rela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4000" y="404280"/>
            <a:ext cx="7878600" cy="5977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DT3 : MODALIT</a:t>
            </a:r>
            <a:r>
              <a:rPr b="1" lang="fr-FR" sz="27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S APPROVISIONNEMENT</a:t>
            </a:r>
            <a:br>
              <a:rPr sz="3100"/>
            </a:b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 </a:t>
            </a:r>
            <a:r>
              <a:rPr b="1" lang="fr-FR" sz="2800" spc="-1" strike="noStrike">
                <a:solidFill>
                  <a:srgbClr val="000000"/>
                </a:solidFill>
                <a:latin typeface="Arial"/>
                <a:ea typeface="Arial"/>
              </a:rPr>
              <a:t>Stock de PSL (composition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Commande - Prescription (pour DR)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Procédure en cas de prescription non conform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Transpor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Planifiés / En urg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Effectués par EFS / société de service (convention) /E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Contrôle à réception des PSL : modali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Destinataire, conformité</a:t>
            </a:r>
            <a:r>
              <a:rPr b="1" lang="fr-FR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s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 commande </a:t>
            </a:r>
            <a:r>
              <a:rPr b="1" lang="fr-FR" sz="1900" spc="-1" strike="noStrike" u="sng">
                <a:solidFill>
                  <a:srgbClr val="000000"/>
                </a:solidFill>
                <a:uFillTx/>
                <a:latin typeface="Arial"/>
                <a:ea typeface="Arial"/>
              </a:rPr>
              <a:t>et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 transpor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Gestion du stock : Modali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Enregistrements entrées et sorties, rangement des PS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72840" y="1125360"/>
            <a:ext cx="7807320" cy="553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spcBef>
                <a:spcPts val="799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DT4 : MODALIT</a:t>
            </a:r>
            <a:r>
              <a:rPr b="1" lang="fr-FR" sz="32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S de D</a:t>
            </a:r>
            <a:r>
              <a:rPr b="1" lang="fr-FR" sz="32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LIVRANCE </a:t>
            </a:r>
            <a:br>
              <a:rPr sz="3200"/>
            </a:b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spcBef>
                <a:spcPts val="524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Prescription et délivrance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spcBef>
                <a:spcPts val="524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Décongélation des PFC :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spcBef>
                <a:spcPts val="524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Traçabilité des PSL conservés et délivrés par le dépôt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spcBef>
                <a:spcPts val="524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Archivage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457200" indent="-358920">
              <a:spcBef>
                <a:spcPts val="524"/>
              </a:spcBef>
              <a:spcAft>
                <a:spcPts val="1037"/>
              </a:spcAft>
              <a:buClr>
                <a:srgbClr val="000000"/>
              </a:buClr>
              <a:buFont typeface="Arial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    </a:t>
            </a:r>
            <a:r>
              <a:rPr b="1" i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Disques enregistrement procédures, de contrôle, dossier transfusionnel…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spcBef>
                <a:spcPts val="524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Procédure de transfert patient par équipe urgentiste avec ses PSL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spcBef>
                <a:spcPts val="524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Arial"/>
                <a:ea typeface="Arial"/>
              </a:rPr>
              <a:t>Convention de Délivrance en Urgence Vitale à un autre E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672840" y="1052640"/>
            <a:ext cx="7807320" cy="5248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73000"/>
              </a:lnSpc>
              <a:spcBef>
                <a:spcPts val="774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DT5 : MODALIT</a:t>
            </a:r>
            <a:r>
              <a:rPr b="1" lang="fr-FR" sz="31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S TRANSFERT du Dépôt Relais vers les Unités Soins </a:t>
            </a:r>
            <a:br>
              <a:rPr sz="3100"/>
            </a:b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7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Réception des PSL délivrés par ET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7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Transfert des PSL délivrés à un patien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7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Traçabilité des PS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73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dans le dépô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73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vers l’EF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7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Archivage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73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i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supports enregistrement, procédures contrôl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72840" y="1197000"/>
            <a:ext cx="780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PROCEDURES</a:t>
            </a:r>
            <a:br>
              <a:rPr sz="2700"/>
            </a:br>
            <a:br>
              <a:rPr sz="2700"/>
            </a:b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LE DEPOT se DOTE de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35892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Ensemble de procédures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ermettant de garantir pour les PSL: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25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La sécuri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25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L’approvisionnement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25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Arial"/>
              <a:buChar char="•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La traçabilit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936720" y="5327640"/>
            <a:ext cx="7581960" cy="1067400"/>
          </a:xfrm>
          <a:prstGeom prst="rect">
            <a:avLst/>
          </a:prstGeom>
          <a:solidFill>
            <a:srgbClr val="ccc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i="1" lang="fr-FR" sz="1600" spc="-1" strike="noStrike">
                <a:solidFill>
                  <a:srgbClr val="3333cc"/>
                </a:solidFill>
                <a:latin typeface="Arial"/>
              </a:rPr>
              <a:t>Le dépôt et les activités qui y sont pratiquées répondent aux exigences fixées par les principes de bonnes pratiques prévues à l’article </a:t>
            </a:r>
            <a:r>
              <a:rPr b="1" i="1" lang="fr-FR" sz="1600" spc="-1" strike="noStrike">
                <a:solidFill>
                  <a:srgbClr val="3333cc"/>
                </a:solidFill>
                <a:latin typeface="Arial"/>
              </a:rPr>
              <a:t>L - 1223.3</a:t>
            </a:r>
            <a:r>
              <a:rPr b="0" i="1" lang="fr-FR" sz="1600" spc="-1" strike="noStrike">
                <a:solidFill>
                  <a:srgbClr val="3333cc"/>
                </a:solidFill>
                <a:latin typeface="Arial"/>
              </a:rPr>
              <a:t> et à celles relatives à la liste et aux caractéristiques des produits sanguins labiles prévues à l’article </a:t>
            </a:r>
            <a:r>
              <a:rPr b="1" i="1" lang="fr-FR" sz="1600" spc="-1" strike="noStrike">
                <a:solidFill>
                  <a:srgbClr val="3333cc"/>
                </a:solidFill>
                <a:latin typeface="Arial"/>
              </a:rPr>
              <a:t>L - 1221.8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Arial"/>
              </a:rPr>
              <a:t>DOSSIER TECHNIQU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601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T1 : modalités du fonctionnement du dép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601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T2 : modalités de sécurisation du dépôt et des PSL conservé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601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T3 : modalités approvisionnement du dép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601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T4 : modalités délivrance des PSL par le dépô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601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0"/>
                <a:tab algn="l" pos="104760"/>
                <a:tab algn="l" pos="554040"/>
                <a:tab algn="l" pos="1003320"/>
                <a:tab algn="l" pos="1452600"/>
                <a:tab algn="l" pos="1901880"/>
                <a:tab algn="l" pos="2351160"/>
                <a:tab algn="l" pos="2800440"/>
                <a:tab algn="l" pos="3249720"/>
                <a:tab algn="l" pos="3699000"/>
                <a:tab algn="l" pos="4148280"/>
                <a:tab algn="l" pos="4597560"/>
                <a:tab algn="l" pos="5046840"/>
                <a:tab algn="l" pos="5495760"/>
                <a:tab algn="l" pos="5945040"/>
                <a:tab algn="l" pos="6394320"/>
                <a:tab algn="l" pos="6843600"/>
                <a:tab algn="l" pos="7292880"/>
                <a:tab algn="l" pos="7742160"/>
                <a:tab algn="l" pos="8191440"/>
                <a:tab algn="l" pos="864072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DT5 : modalités transfert PSL par le dépôt relais dans les unités de soi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100000"/>
              </a:lnSpc>
              <a:spcBef>
                <a:spcPts val="774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DT1 : MODALIT</a:t>
            </a:r>
            <a:r>
              <a:rPr b="1" lang="fr-FR" sz="31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S FONCTIONNEMENT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6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000000"/>
                </a:solidFill>
                <a:latin typeface="Arial"/>
                <a:ea typeface="Arial"/>
              </a:rPr>
              <a:t>PERSONNEL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575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Liste du personnel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575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Qualification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575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575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Plan de form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601"/>
              </a:spcBef>
              <a:spcAft>
                <a:spcPts val="774"/>
              </a:spcAft>
              <a:buNone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575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i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Habilitation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DT1 : MODALIT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S de FONCTIONNEMENT</a:t>
            </a:r>
            <a:br>
              <a:rPr sz="2800"/>
            </a:b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601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LOCAL ET FONCTIONNEM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Plages horaires du fonctionn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Description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Pla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Ventilation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Températur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Sécurité electriqu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Modalités maintenance/entretien/hygiène du local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72840" y="1197000"/>
            <a:ext cx="780732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DT1 : MODALIT</a:t>
            </a:r>
            <a:r>
              <a:rPr b="1" lang="fr-FR" sz="27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S de FONCTIONNEMENT</a:t>
            </a:r>
            <a:br>
              <a:rPr sz="2700"/>
            </a:b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MATÉRIEL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Types de matérie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Matériels de conservation des PS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Matériels de décongélation des PS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Système informatisé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Qualification et maintena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Qualification du matériel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Contrat de maintenance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Modalités maintenance/entretien/hygiène des matériels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76"/>
              </a:spcBef>
              <a:spcAft>
                <a:spcPts val="524"/>
              </a:spcAft>
              <a:buNone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100000"/>
              </a:lnSpc>
              <a:spcBef>
                <a:spcPts val="700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DT1 : MODALIT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S FONCTIONNEMENT</a:t>
            </a:r>
            <a:br>
              <a:rPr sz="2800"/>
            </a:br>
            <a:r>
              <a:rPr b="1" lang="fr-FR" sz="2800" spc="-1" strike="noStrike">
                <a:solidFill>
                  <a:srgbClr val="ffcc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100000"/>
              </a:lnSpc>
              <a:spcBef>
                <a:spcPts val="601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Arial"/>
                <a:ea typeface="Arial"/>
              </a:rPr>
              <a:t>PROCÉDUR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Urgence Vitale (3 niveaux)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UVI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UV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3" marL="1560600" indent="-189000">
              <a:lnSpc>
                <a:spcPct val="100000"/>
              </a:lnSpc>
              <a:spcBef>
                <a:spcPts val="425"/>
              </a:spcBef>
              <a:spcAft>
                <a:spcPts val="524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700" spc="-1" strike="noStrike">
                <a:solidFill>
                  <a:srgbClr val="000000"/>
                </a:solidFill>
                <a:latin typeface="Arial"/>
                <a:ea typeface="Arial"/>
              </a:rPr>
              <a:t>UVD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100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Réapprovisionnement sans délai du stock d’urgence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100000"/>
              </a:lnSpc>
              <a:spcBef>
                <a:spcPts val="476"/>
              </a:spcBef>
              <a:spcAft>
                <a:spcPts val="524"/>
              </a:spcAft>
              <a:buNone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72840" y="1906200"/>
            <a:ext cx="7807320" cy="431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100000"/>
              </a:lnSpc>
              <a:spcBef>
                <a:spcPts val="675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DT2 : MODALIT</a:t>
            </a:r>
            <a:r>
              <a:rPr b="1" lang="fr-FR" sz="27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S de S</a:t>
            </a:r>
            <a:r>
              <a:rPr b="1" lang="fr-FR" sz="27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CURISATION</a:t>
            </a:r>
            <a:br>
              <a:rPr sz="2700"/>
            </a:br>
            <a:r>
              <a:rPr b="1" lang="fr-FR" sz="2700" spc="-1" strike="noStrike">
                <a:solidFill>
                  <a:srgbClr val="ffcc00"/>
                </a:solidFill>
                <a:latin typeface="Arial"/>
              </a:rPr>
              <a:t>du DEPOT et des PSL conservés 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 marL="457200" indent="-358920">
              <a:lnSpc>
                <a:spcPct val="100000"/>
              </a:lnSpc>
              <a:spcBef>
                <a:spcPts val="575"/>
              </a:spcBef>
              <a:buClr>
                <a:srgbClr val="ccccff"/>
              </a:buClr>
              <a:buFont typeface="Arial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700" spc="-1" strike="noStrike">
                <a:solidFill>
                  <a:srgbClr val="ccccff"/>
                </a:solidFill>
                <a:latin typeface="Arial"/>
              </a:rPr>
              <a:t>     </a:t>
            </a:r>
            <a:r>
              <a:rPr b="1" lang="fr-FR" sz="2700" spc="-1" strike="noStrike">
                <a:solidFill>
                  <a:srgbClr val="000000"/>
                </a:solidFill>
                <a:latin typeface="Arial"/>
              </a:rPr>
              <a:t>Modalités et conditions de reprise </a:t>
            </a:r>
            <a:r>
              <a:rPr b="0" lang="fr-FR" sz="2700" spc="-1" strike="noStrike">
                <a:solidFill>
                  <a:srgbClr val="000000"/>
                </a:solidFill>
                <a:latin typeface="Arial"/>
              </a:rPr>
              <a:t>par ETS référent (EFS ou CTSA), des PSL, lorsque ces produits n’ont pas été utilisés.</a:t>
            </a:r>
            <a:br>
              <a:rPr sz="2700"/>
            </a:br>
            <a:br>
              <a:rPr sz="2700"/>
            </a:br>
            <a:r>
              <a:rPr b="0" i="1" lang="fr-FR" sz="2300" spc="-1" strike="noStrike">
                <a:solidFill>
                  <a:srgbClr val="000000"/>
                </a:solidFill>
                <a:latin typeface="Arial"/>
              </a:rPr>
              <a:t> Convention de reprise des PSL restés conformes</a:t>
            </a:r>
            <a:r>
              <a:rPr b="0" i="1" lang="fr-FR" sz="2300" spc="-1" strike="noStrike">
                <a:solidFill>
                  <a:srgbClr val="ccccff"/>
                </a:solidFill>
                <a:latin typeface="Arial"/>
              </a:rPr>
              <a:t>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-360" y="43920"/>
            <a:ext cx="8101080" cy="105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72840" y="1125000"/>
            <a:ext cx="7807320" cy="510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57200" indent="-358920">
              <a:lnSpc>
                <a:spcPct val="83000"/>
              </a:lnSpc>
              <a:spcBef>
                <a:spcPts val="774"/>
              </a:spcBef>
              <a:buClr>
                <a:srgbClr val="9999cc"/>
              </a:buClr>
              <a:buSzPct val="120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DT2 : MODALIT</a:t>
            </a:r>
            <a:r>
              <a:rPr b="1" lang="fr-FR" sz="31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S de S</a:t>
            </a:r>
            <a:r>
              <a:rPr b="1" lang="fr-FR" sz="3100" spc="-1" strike="noStrike">
                <a:solidFill>
                  <a:srgbClr val="ffcc00"/>
                </a:solidFill>
                <a:latin typeface="Arial"/>
                <a:ea typeface="Arial"/>
              </a:rPr>
              <a:t>É</a:t>
            </a: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CURISATION</a:t>
            </a:r>
            <a:br>
              <a:rPr sz="3100"/>
            </a:br>
            <a:r>
              <a:rPr b="1" lang="fr-FR" sz="3100" spc="-1" strike="noStrike">
                <a:solidFill>
                  <a:srgbClr val="ffcc00"/>
                </a:solidFill>
                <a:latin typeface="Arial"/>
              </a:rPr>
              <a:t> du DEPOT et des PSL </a:t>
            </a:r>
            <a:endParaRPr b="0" lang="en-US" sz="31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8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Destruction et élimination déchets, en cas de destruction </a:t>
            </a:r>
            <a:r>
              <a:rPr b="1" i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in situ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8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Conduite à Tenir dans le dépôt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83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En cas d’incid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2" marL="1168560" indent="-193680">
              <a:lnSpc>
                <a:spcPct val="83000"/>
              </a:lnSpc>
              <a:spcBef>
                <a:spcPts val="476"/>
              </a:spcBef>
              <a:spcAft>
                <a:spcPts val="774"/>
              </a:spcAft>
              <a:buClr>
                <a:srgbClr val="9999cc"/>
              </a:buClr>
              <a:buSzPct val="4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En cas de dysfonctionnement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8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Signalement 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(</a:t>
            </a:r>
            <a:r>
              <a:rPr b="1" i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déclaration si IG</a:t>
            </a:r>
            <a:r>
              <a:rPr b="1" lang="fr-FR" sz="1900" spc="-1" strike="noStrike">
                <a:solidFill>
                  <a:srgbClr val="000000"/>
                </a:solidFill>
                <a:latin typeface="Arial"/>
                <a:ea typeface="Arial"/>
              </a:rPr>
              <a:t>)</a:t>
            </a: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 des incidents et dysfonctionnements : Modali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8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Suivi des dépôts par ETS référent : Modalités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  <a:p>
            <a:pPr lvl="1" marL="776160" indent="-258480">
              <a:lnSpc>
                <a:spcPct val="83000"/>
              </a:lnSpc>
              <a:spcBef>
                <a:spcPts val="575"/>
              </a:spcBef>
              <a:spcAft>
                <a:spcPts val="1037"/>
              </a:spcAft>
              <a:buClr>
                <a:srgbClr val="9999cc"/>
              </a:buClr>
              <a:buSzPct val="75000"/>
              <a:buFont typeface="Wingdings" charset="2"/>
              <a:buChar char=""/>
              <a:tabLst>
                <a:tab algn="l" pos="457200"/>
                <a:tab algn="l" pos="561960"/>
                <a:tab algn="l" pos="1011240"/>
                <a:tab algn="l" pos="1460520"/>
                <a:tab algn="l" pos="1909800"/>
                <a:tab algn="l" pos="2359080"/>
                <a:tab algn="l" pos="2808360"/>
                <a:tab algn="l" pos="3257640"/>
                <a:tab algn="l" pos="3706920"/>
                <a:tab algn="l" pos="4156200"/>
                <a:tab algn="l" pos="4605480"/>
                <a:tab algn="l" pos="5054760"/>
                <a:tab algn="l" pos="5504040"/>
                <a:tab algn="l" pos="5952960"/>
                <a:tab algn="l" pos="6402240"/>
                <a:tab algn="l" pos="6851520"/>
                <a:tab algn="l" pos="7300800"/>
                <a:tab algn="l" pos="7750080"/>
                <a:tab algn="l" pos="8199360"/>
                <a:tab algn="l" pos="8648640"/>
                <a:tab algn="l" pos="9097920"/>
                <a:tab algn="l" pos="9144000"/>
                <a:tab algn="l" pos="10058400"/>
              </a:tabLst>
            </a:pPr>
            <a:r>
              <a:rPr b="1" lang="fr-FR" sz="2300" spc="-1" strike="noStrike">
                <a:solidFill>
                  <a:srgbClr val="000000"/>
                </a:solidFill>
                <a:latin typeface="Arial"/>
                <a:ea typeface="Arial"/>
              </a:rPr>
              <a:t>Rappel et quarantaine des PSL : Modalités et conditions 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7513560" y="6643800"/>
            <a:ext cx="1590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fr-FR" sz="800" spc="-1" strike="noStrike">
                <a:solidFill>
                  <a:srgbClr val="ffcc00"/>
                </a:solidFill>
                <a:latin typeface="Accord Light SF"/>
              </a:rPr>
              <a:t>JP AULLEN – Décembre 2007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30T14:22:48Z</dcterms:created>
  <dc:creator>jbusseron</dc:creator>
  <dc:description/>
  <dc:language>en-US</dc:language>
  <cp:lastModifiedBy>GD</cp:lastModifiedBy>
  <dcterms:modified xsi:type="dcterms:W3CDTF">2012-10-01T18:50:21Z</dcterms:modified>
  <cp:revision>86</cp:revision>
  <dc:subject/>
  <dc:title>Diapositive 1</dc:title>
</cp:coreProperties>
</file>