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33BBEE-C79F-4343-B829-ACB27F4F4CE0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822492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6840" y="4225320"/>
            <a:ext cx="822492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E0F116-B0EF-4FC3-B2A7-E3AF88C18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684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172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2844A-BD4F-4203-87C1-9E84CF2D0C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7840" y="193500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18840" y="193500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6840" y="422532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7840" y="422532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18840" y="422532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D7FF0-0A83-4CAF-A2B4-220346726445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FB75A88-F2BF-403E-BB93-3475E1538B66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456840" y="1935000"/>
            <a:ext cx="8224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6CA5A45-BF1A-4BD8-933E-E4A104EF5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822492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7E6B5D8-30D5-4427-8039-73D2038A17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A85F365-600F-4960-96F9-30706D114D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DACDC8-0038-4AE8-8F41-3A549B1449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456840" y="270000"/>
            <a:ext cx="8224920" cy="72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5626CA0-8EF5-4C48-9C2B-243D43FD2B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5684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FF492D4-2D6E-45FA-85D5-00DACE3FB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6840" y="1935000"/>
            <a:ext cx="8224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2FD4824-A2CF-49FF-B1AB-4CEDAE1508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172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F62660E-FC3C-4681-9B89-BF2E02DDE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56840" y="4225320"/>
            <a:ext cx="822492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B41663E-8A09-491C-B6AF-6F963F7897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822492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56840" y="4225320"/>
            <a:ext cx="822492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A3DC24E-3323-4B54-8590-CD6DDEFD93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45684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172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5EB7B7E-490E-429F-B2DF-267F9618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237840" y="193500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18840" y="193500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456840" y="422532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237840" y="422532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18840" y="422532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605B9AA-EC3B-477F-92DC-5713D0D816A0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46A15-28B7-4EEC-91E4-89392C1EE99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456840" y="1935000"/>
            <a:ext cx="8224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E140BD-BC3F-4AF1-977D-56288777FA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822492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9C0D5-86FF-4814-9ECD-0350A899F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10CF8A-971B-46CE-89B4-84F9DABAD9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F778FA-569A-4E48-BDAD-B65DAA6629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822492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E15151-8149-45F9-9F8B-F2A11FB64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456840" y="270000"/>
            <a:ext cx="8224920" cy="72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92436-4B09-4249-A5D1-4128172BB5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45684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18846F-08A2-4747-A007-940F355CF5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172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BB1B9F-79B2-4777-AD28-D69193193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456840" y="4225320"/>
            <a:ext cx="822492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9B775-144B-4B9E-BC35-7FA863584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822492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56840" y="4225320"/>
            <a:ext cx="822492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32C4FE-9ABE-4705-B367-70542080E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45684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172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C5D2D0-458A-49F7-BC0A-C186698E7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237840" y="193500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18840" y="193500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456840" y="422532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237840" y="422532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18840" y="422532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F237FD-B1C3-4641-80DB-2E14B471293A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466C610-2E52-4F50-ACBD-43351847ECB5}" type="slidenum">
              <a:t>&lt;#&gt;</a:t>
            </a:fld>
          </a:p>
        </p:txBody>
      </p:sp>
      <p:sp>
        <p:nvSpPr>
          <p:cNvPr id="3" name="PlaceHolder 2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 type="subTitle"/>
          </p:nvPr>
        </p:nvSpPr>
        <p:spPr>
          <a:xfrm>
            <a:off x="456840" y="1935000"/>
            <a:ext cx="8224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5664C9-4A99-4B61-B969-19C8429CC0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822492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95EE5B5-9654-4753-BF25-4550A6AACE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595B85-AD95-4D33-BBC0-DA2BC21226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0371E8F-83C9-45CB-9CAC-C430A0B2A3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6AB9A21-1B82-471D-886C-8D5AAC324E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ubTitle"/>
          </p:nvPr>
        </p:nvSpPr>
        <p:spPr>
          <a:xfrm>
            <a:off x="456840" y="270000"/>
            <a:ext cx="8224920" cy="72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540BC47-3418-4934-BFFB-07702D1E58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684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225253F-AF22-4DAA-A107-B2B77870D1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5" name="PlaceHolder 4"/>
          <p:cNvSpPr>
            <a:spLocks noGrp="1"/>
          </p:cNvSpPr>
          <p:nvPr>
            <p:ph/>
          </p:nvPr>
        </p:nvSpPr>
        <p:spPr>
          <a:xfrm>
            <a:off x="467172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1E5AA117-2DE3-49A2-AA8E-20D585D6B9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8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79" name="PlaceHolder 4"/>
          <p:cNvSpPr>
            <a:spLocks noGrp="1"/>
          </p:cNvSpPr>
          <p:nvPr>
            <p:ph/>
          </p:nvPr>
        </p:nvSpPr>
        <p:spPr>
          <a:xfrm>
            <a:off x="456840" y="4225320"/>
            <a:ext cx="822492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E3338E1-1AB4-4343-A53E-15D8EE2819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822492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456840" y="4225320"/>
            <a:ext cx="822492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B9C72C2-13C0-4058-BD58-FC2DBD052D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45684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87" name="PlaceHolder 5"/>
          <p:cNvSpPr>
            <a:spLocks noGrp="1"/>
          </p:cNvSpPr>
          <p:nvPr>
            <p:ph/>
          </p:nvPr>
        </p:nvSpPr>
        <p:spPr>
          <a:xfrm>
            <a:off x="467172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0319BC-8329-4676-B18C-05904B193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3237840" y="193500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6018840" y="193500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2" name="PlaceHolder 5"/>
          <p:cNvSpPr>
            <a:spLocks noGrp="1"/>
          </p:cNvSpPr>
          <p:nvPr>
            <p:ph/>
          </p:nvPr>
        </p:nvSpPr>
        <p:spPr>
          <a:xfrm>
            <a:off x="456840" y="422532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3" name="PlaceHolder 6"/>
          <p:cNvSpPr>
            <a:spLocks noGrp="1"/>
          </p:cNvSpPr>
          <p:nvPr>
            <p:ph/>
          </p:nvPr>
        </p:nvSpPr>
        <p:spPr>
          <a:xfrm>
            <a:off x="3237840" y="422532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94" name="PlaceHolder 7"/>
          <p:cNvSpPr>
            <a:spLocks noGrp="1"/>
          </p:cNvSpPr>
          <p:nvPr>
            <p:ph/>
          </p:nvPr>
        </p:nvSpPr>
        <p:spPr>
          <a:xfrm>
            <a:off x="6018840" y="4225320"/>
            <a:ext cx="264816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348D62F0-3384-49FE-A226-76BBB9BD4B4F}" type="slidenum">
              <a:t>&lt;#&gt;</a:t>
            </a:fld>
          </a:p>
        </p:txBody>
      </p:sp>
      <p:sp>
        <p:nvSpPr>
          <p:cNvPr id="10" name="PlaceHolder 9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EDFC928-D68D-480E-9134-720E3EBAE7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6840" y="270000"/>
            <a:ext cx="8224920" cy="727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6549C3-5FA7-465E-B54A-F1E8AB5FCF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D32042-D8BF-414A-9846-92B1D864F8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1720" y="422532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2DBEE74-F783-46B7-87BF-5F34D9AF26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1720" y="1935000"/>
            <a:ext cx="401364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225320"/>
            <a:ext cx="8224920" cy="20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215E7-36AD-4AAC-9BA7-3C283FB4A4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25.xml"/><Relationship Id="rId6" Type="http://schemas.openxmlformats.org/officeDocument/2006/relationships/slideLayout" Target="../slideLayouts/slideLayout26.xml"/><Relationship Id="rId7" Type="http://schemas.openxmlformats.org/officeDocument/2006/relationships/slideLayout" Target="../slideLayouts/slideLayout27.xml"/><Relationship Id="rId8" Type="http://schemas.openxmlformats.org/officeDocument/2006/relationships/slideLayout" Target="../slideLayouts/slideLayout28.xml"/><Relationship Id="rId9" Type="http://schemas.openxmlformats.org/officeDocument/2006/relationships/slideLayout" Target="../slideLayouts/slideLayout29.xml"/><Relationship Id="rId10" Type="http://schemas.openxmlformats.org/officeDocument/2006/relationships/slideLayout" Target="../slideLayouts/slideLayout30.xml"/><Relationship Id="rId11" Type="http://schemas.openxmlformats.org/officeDocument/2006/relationships/slideLayout" Target="../slideLayouts/slideLayout31.xml"/><Relationship Id="rId12" Type="http://schemas.openxmlformats.org/officeDocument/2006/relationships/slideLayout" Target="../slideLayouts/slideLayout32.xml"/><Relationship Id="rId13" Type="http://schemas.openxmlformats.org/officeDocument/2006/relationships/slideLayout" Target="../slideLayouts/slideLayout33.xml"/><Relationship Id="rId14" Type="http://schemas.openxmlformats.org/officeDocument/2006/relationships/slideLayout" Target="../slideLayouts/slideLayout34.xml"/><Relationship Id="rId15" Type="http://schemas.openxmlformats.org/officeDocument/2006/relationships/slideLayout" Target="../slideLayouts/slideLayout35.xml"/><Relationship Id="rId16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ebf8"/>
              </a:gs>
              <a:gs pos="100000">
                <a:srgbClr val="0079a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9be5"/>
              </a:gs>
              <a:gs pos="100000">
                <a:srgbClr val="00adb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6840" y="1935000"/>
            <a:ext cx="822492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7924680" y="6356160"/>
            <a:ext cx="75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fr-FR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E34EDA1-F35B-4CA6-A14C-8DE948DB286C}" type="slidenum">
              <a:rPr b="0" lang="fr-FR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" name=""/>
          <p:cNvGrpSpPr/>
          <p:nvPr/>
        </p:nvGrpSpPr>
        <p:grpSpPr>
          <a:xfrm>
            <a:off x="-19080" y="203040"/>
            <a:ext cx="9175680" cy="642960"/>
            <a:chOff x="-19080" y="203040"/>
            <a:chExt cx="9175680" cy="642960"/>
          </a:xfrm>
        </p:grpSpPr>
        <p:grpSp>
          <p:nvGrpSpPr>
            <p:cNvPr id="8" name=""/>
            <p:cNvGrpSpPr/>
            <p:nvPr/>
          </p:nvGrpSpPr>
          <p:grpSpPr>
            <a:xfrm>
              <a:off x="-19080" y="203040"/>
              <a:ext cx="9158400" cy="642960"/>
              <a:chOff x="-19080" y="203040"/>
              <a:chExt cx="9158400" cy="642960"/>
            </a:xfrm>
          </p:grpSpPr>
          <p:pic>
            <p:nvPicPr>
              <p:cNvPr id="9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6080" cy="64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" name=""/>
              <p:cNvSpPr/>
              <p:nvPr/>
            </p:nvSpPr>
            <p:spPr>
              <a:xfrm rot="21420000">
                <a:off x="-18720" y="479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1" name=""/>
            <p:cNvGrpSpPr/>
            <p:nvPr/>
          </p:nvGrpSpPr>
          <p:grpSpPr>
            <a:xfrm>
              <a:off x="-19080" y="247680"/>
              <a:ext cx="9175680" cy="557280"/>
              <a:chOff x="-19080" y="247680"/>
              <a:chExt cx="9175680" cy="557280"/>
            </a:xfrm>
          </p:grpSpPr>
          <p:pic>
            <p:nvPicPr>
              <p:cNvPr id="12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59840" cy="55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3" name=""/>
              <p:cNvSpPr/>
              <p:nvPr/>
            </p:nvSpPr>
            <p:spPr>
              <a:xfrm rot="214200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ebf8"/>
              </a:gs>
              <a:gs pos="100000">
                <a:srgbClr val="0079a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9be5"/>
              </a:gs>
              <a:gs pos="100000">
                <a:srgbClr val="00adb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2" name=""/>
          <p:cNvGrpSpPr/>
          <p:nvPr/>
        </p:nvGrpSpPr>
        <p:grpSpPr>
          <a:xfrm>
            <a:off x="-19080" y="203040"/>
            <a:ext cx="9175680" cy="642960"/>
            <a:chOff x="-19080" y="203040"/>
            <a:chExt cx="9175680" cy="642960"/>
          </a:xfrm>
        </p:grpSpPr>
        <p:grpSp>
          <p:nvGrpSpPr>
            <p:cNvPr id="53" name=""/>
            <p:cNvGrpSpPr/>
            <p:nvPr/>
          </p:nvGrpSpPr>
          <p:grpSpPr>
            <a:xfrm>
              <a:off x="-19080" y="203040"/>
              <a:ext cx="9158400" cy="642960"/>
              <a:chOff x="-19080" y="203040"/>
              <a:chExt cx="9158400" cy="642960"/>
            </a:xfrm>
          </p:grpSpPr>
          <p:pic>
            <p:nvPicPr>
              <p:cNvPr id="5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6080" cy="64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5" name=""/>
              <p:cNvSpPr/>
              <p:nvPr/>
            </p:nvSpPr>
            <p:spPr>
              <a:xfrm rot="21420000">
                <a:off x="-18720" y="479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6" name=""/>
            <p:cNvGrpSpPr/>
            <p:nvPr/>
          </p:nvGrpSpPr>
          <p:grpSpPr>
            <a:xfrm>
              <a:off x="-19080" y="247680"/>
              <a:ext cx="9175680" cy="557280"/>
              <a:chOff x="-19080" y="247680"/>
              <a:chExt cx="9175680" cy="557280"/>
            </a:xfrm>
          </p:grpSpPr>
          <p:pic>
            <p:nvPicPr>
              <p:cNvPr id="5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59840" cy="55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8" name=""/>
              <p:cNvSpPr/>
              <p:nvPr/>
            </p:nvSpPr>
            <p:spPr>
              <a:xfrm rot="214200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456840" y="1935000"/>
            <a:ext cx="822492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3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200" spc="-1" strike="noStrike">
                <a:solidFill>
                  <a:srgbClr val="d1eaee"/>
                </a:solidFill>
                <a:latin typeface="Constanti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200" spc="-1" strike="noStrike">
                <a:solidFill>
                  <a:srgbClr val="d1eaee"/>
                </a:solidFill>
                <a:latin typeface="Constantia"/>
                <a:ea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 type="sldNum" idx="4"/>
          </p:nvPr>
        </p:nvSpPr>
        <p:spPr>
          <a:xfrm>
            <a:off x="7924680" y="6356160"/>
            <a:ext cx="75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fr-FR" sz="1200" spc="-1" strike="noStrike">
                <a:solidFill>
                  <a:srgbClr val="d1eaee"/>
                </a:solidFill>
                <a:latin typeface="Constanti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F50599AE-AB41-4F4F-80F2-E8ED1D58690F}" type="slidenum">
              <a:rPr b="0" lang="fr-FR" sz="1200" spc="-1" strike="noStrike">
                <a:solidFill>
                  <a:srgbClr val="d1eaee"/>
                </a:solidFill>
                <a:latin typeface="Constanti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-9360" y="-7920"/>
            <a:ext cx="9162720" cy="1041480"/>
          </a:xfrm>
          <a:prstGeom prst="pie">
            <a:avLst/>
          </a:prstGeom>
          <a:gradFill rotWithShape="0">
            <a:gsLst>
              <a:gs pos="0">
                <a:srgbClr val="00ebf8"/>
              </a:gs>
              <a:gs pos="100000">
                <a:srgbClr val="0079a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381560" y="-7920"/>
            <a:ext cx="4762440" cy="638280"/>
          </a:xfrm>
          <a:prstGeom prst="pie">
            <a:avLst/>
          </a:prstGeom>
          <a:gradFill rotWithShape="0">
            <a:gsLst>
              <a:gs pos="0">
                <a:srgbClr val="009be5"/>
              </a:gs>
              <a:gs pos="100000">
                <a:srgbClr val="00adb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2" name=""/>
          <p:cNvGrpSpPr/>
          <p:nvPr/>
        </p:nvGrpSpPr>
        <p:grpSpPr>
          <a:xfrm>
            <a:off x="-19080" y="203040"/>
            <a:ext cx="9175680" cy="642960"/>
            <a:chOff x="-19080" y="203040"/>
            <a:chExt cx="9175680" cy="642960"/>
          </a:xfrm>
        </p:grpSpPr>
        <p:grpSp>
          <p:nvGrpSpPr>
            <p:cNvPr id="103" name=""/>
            <p:cNvGrpSpPr/>
            <p:nvPr/>
          </p:nvGrpSpPr>
          <p:grpSpPr>
            <a:xfrm>
              <a:off x="-19080" y="203040"/>
              <a:ext cx="9158400" cy="642960"/>
              <a:chOff x="-19080" y="203040"/>
              <a:chExt cx="9158400" cy="642960"/>
            </a:xfrm>
          </p:grpSpPr>
          <p:pic>
            <p:nvPicPr>
              <p:cNvPr id="104" name="" descr=""/>
              <p:cNvPicPr/>
              <p:nvPr/>
            </p:nvPicPr>
            <p:blipFill>
              <a:blip r:embed="rId3"/>
              <a:stretch/>
            </p:blipFill>
            <p:spPr>
              <a:xfrm>
                <a:off x="3240" y="203040"/>
                <a:ext cx="9136080" cy="64296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" name=""/>
              <p:cNvSpPr/>
              <p:nvPr/>
            </p:nvSpPr>
            <p:spPr>
              <a:xfrm rot="21420000">
                <a:off x="-18720" y="47916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6" name=""/>
            <p:cNvGrpSpPr/>
            <p:nvPr/>
          </p:nvGrpSpPr>
          <p:grpSpPr>
            <a:xfrm>
              <a:off x="-19080" y="247680"/>
              <a:ext cx="9175680" cy="557280"/>
              <a:chOff x="-19080" y="247680"/>
              <a:chExt cx="9175680" cy="557280"/>
            </a:xfrm>
          </p:grpSpPr>
          <p:pic>
            <p:nvPicPr>
              <p:cNvPr id="107" name="" descr=""/>
              <p:cNvPicPr/>
              <p:nvPr/>
            </p:nvPicPr>
            <p:blipFill>
              <a:blip r:embed="rId4"/>
              <a:stretch/>
            </p:blipFill>
            <p:spPr>
              <a:xfrm>
                <a:off x="-3240" y="247680"/>
                <a:ext cx="9159840" cy="557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8" name=""/>
              <p:cNvSpPr/>
              <p:nvPr/>
            </p:nvSpPr>
            <p:spPr>
              <a:xfrm rot="21420000">
                <a:off x="-18720" y="523440"/>
                <a:ext cx="36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46440" bIns="-4644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dbf5f9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456840" y="1935000"/>
            <a:ext cx="822492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5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200" spc="-1" strike="noStrike">
                <a:solidFill>
                  <a:srgbClr val="d1eaee"/>
                </a:solidFill>
                <a:latin typeface="Constanti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200" spc="-1" strike="noStrike">
                <a:solidFill>
                  <a:srgbClr val="d1eaee"/>
                </a:solidFill>
                <a:latin typeface="Constantia"/>
                <a:ea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 type="sldNum" idx="6"/>
          </p:nvPr>
        </p:nvSpPr>
        <p:spPr>
          <a:xfrm>
            <a:off x="7924680" y="6356160"/>
            <a:ext cx="75744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  <a:defRPr b="0" lang="fr-FR" sz="1200" spc="-1" strike="noStrike">
                <a:solidFill>
                  <a:srgbClr val="d1eaee"/>
                </a:solidFill>
                <a:latin typeface="Constanti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fld id="{032D89DD-91C2-4ED6-AA81-49203A3582D9}" type="slidenum">
              <a:rPr b="0" lang="fr-FR" sz="1200" spc="-1" strike="noStrike">
                <a:solidFill>
                  <a:srgbClr val="d1eaee"/>
                </a:solidFill>
                <a:latin typeface="Constanti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5"/>
    <p:sldLayoutId id="2147483676" r:id="rId6"/>
    <p:sldLayoutId id="2147483677" r:id="rId7"/>
    <p:sldLayoutId id="2147483678" r:id="rId8"/>
    <p:sldLayoutId id="2147483679" r:id="rId9"/>
    <p:sldLayoutId id="2147483680" r:id="rId10"/>
    <p:sldLayoutId id="2147483681" r:id="rId11"/>
    <p:sldLayoutId id="2147483682" r:id="rId12"/>
    <p:sldLayoutId id="2147483683" r:id="rId13"/>
    <p:sldLayoutId id="2147483684" r:id="rId14"/>
    <p:sldLayoutId id="2147483685" r:id="rId15"/>
    <p:sldLayoutId id="2147483686" r:id="rId16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"/>
          <p:cNvSpPr/>
          <p:nvPr/>
        </p:nvSpPr>
        <p:spPr>
          <a:xfrm flipV="1" rot="420000">
            <a:off x="3164040" y="1107000"/>
            <a:ext cx="5257800" cy="4114800"/>
          </a:xfrm>
          <a:prstGeom prst="pie">
            <a:avLst/>
          </a:prstGeom>
          <a:solidFill>
            <a:srgbClr val="ffffff"/>
          </a:solidFill>
          <a:ln w="3240">
            <a:solidFill>
              <a:srgbClr val="c0c0c0"/>
            </a:solidFill>
            <a:miter/>
          </a:ln>
          <a:effectLst>
            <a:outerShdw dist="38546" dir="7483739" blurRad="0" rotWithShape="0">
              <a:srgbClr val="000000">
                <a:alpha val="2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V="1" rot="420000">
            <a:off x="7999200" y="5358960"/>
            <a:ext cx="155520" cy="155520"/>
          </a:xfrm>
          <a:prstGeom prst="rtTriangle">
            <a:avLst/>
          </a:prstGeom>
          <a:solidFill>
            <a:srgbClr val="ffffff"/>
          </a:solidFill>
          <a:ln w="12600">
            <a:solidFill>
              <a:srgbClr val="ffffff"/>
            </a:solidFill>
            <a:bevel/>
          </a:ln>
          <a:effectLst>
            <a:outerShdw dist="6193" dir="12932261" blurRad="0" rotWithShape="0">
              <a:srgbClr val="000000">
                <a:alpha val="47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3600" bIns="36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V="1">
            <a:off x="-9000" y="5814000"/>
            <a:ext cx="9162720" cy="1041480"/>
          </a:xfrm>
          <a:prstGeom prst="pie">
            <a:avLst/>
          </a:prstGeom>
          <a:gradFill rotWithShape="0">
            <a:gsLst>
              <a:gs pos="0">
                <a:srgbClr val="00ebf8"/>
              </a:gs>
              <a:gs pos="100000">
                <a:srgbClr val="0079af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4381560" y="6217560"/>
            <a:ext cx="4762440" cy="638280"/>
          </a:xfrm>
          <a:prstGeom prst="pie">
            <a:avLst/>
          </a:prstGeom>
          <a:gradFill rotWithShape="0">
            <a:gsLst>
              <a:gs pos="0">
                <a:srgbClr val="009be5"/>
              </a:gs>
              <a:gs pos="100000">
                <a:srgbClr val="00adb6">
                  <a:alpha val="45098"/>
                </a:srgbClr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6840" y="270000"/>
            <a:ext cx="8224920" cy="156816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5000" spc="-1" strike="noStrike">
                <a:solidFill>
                  <a:srgbClr val="04617b"/>
                </a:solidFill>
                <a:latin typeface="Calibri"/>
              </a:rPr>
              <a:t>Click to edit the title text format</a:t>
            </a:r>
            <a:endParaRPr b="0" lang="en-US" sz="5000" spc="-1" strike="noStrike">
              <a:solidFill>
                <a:srgbClr val="04617b"/>
              </a:solidFill>
              <a:latin typeface="Calibri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 type="body"/>
          </p:nvPr>
        </p:nvSpPr>
        <p:spPr>
          <a:xfrm>
            <a:off x="456840" y="1935000"/>
            <a:ext cx="8224920" cy="438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1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2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3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4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5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  <a:p>
            <a:pPr lvl="6" marL="343080" indent="-343080">
              <a:spcBef>
                <a:spcPts val="64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000000"/>
              </a:solidFill>
              <a:latin typeface="Constantia"/>
            </a:endParaRPr>
          </a:p>
        </p:txBody>
      </p:sp>
      <p:sp>
        <p:nvSpPr>
          <p:cNvPr id="156" name="PlaceHolder 3"/>
          <p:cNvSpPr>
            <a:spLocks noGrp="1"/>
          </p:cNvSpPr>
          <p:nvPr>
            <p:ph type="dt" idx="7"/>
          </p:nvPr>
        </p:nvSpPr>
        <p:spPr>
          <a:xfrm>
            <a:off x="456840" y="6356160"/>
            <a:ext cx="212868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  <a:ea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</a:tabLst>
            </a:pPr>
            <a:r>
              <a:rPr b="0" lang="fr-FR" sz="1200" spc="-1" strike="noStrike">
                <a:solidFill>
                  <a:srgbClr val="045c75"/>
                </a:solidFill>
                <a:latin typeface="Constantia"/>
                <a:ea typeface="Tahoma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2666880" y="6356520"/>
            <a:ext cx="335304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 type="sldNum" idx="8"/>
          </p:nvPr>
        </p:nvSpPr>
        <p:spPr>
          <a:xfrm>
            <a:off x="8077320" y="6356160"/>
            <a:ext cx="604800" cy="3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200" spc="-1" strike="noStrike">
                <a:solidFill>
                  <a:srgbClr val="045c75"/>
                </a:solidFill>
                <a:latin typeface="Constantia"/>
                <a:ea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A5445682-572C-4162-9B13-77482DCFDBFB}" type="slidenum">
              <a:rPr b="0" lang="fr-FR" sz="1200" spc="-1" strike="noStrike">
                <a:solidFill>
                  <a:srgbClr val="045c75"/>
                </a:solidFill>
                <a:latin typeface="Constantia"/>
                <a:ea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57200" y="792000"/>
            <a:ext cx="8229600" cy="4445280"/>
          </a:xfrm>
          <a:prstGeom prst="rect">
            <a:avLst/>
          </a:prstGeom>
          <a:noFill/>
          <a:ln w="0">
            <a:noFill/>
          </a:ln>
        </p:spPr>
        <p:txBody>
          <a:bodyPr lIns="0" rIns="0" tIns="46800" bIns="0" anchor="b">
            <a:noAutofit/>
          </a:bodyPr>
          <a:p>
            <a:pPr indent="0"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5000" spc="-1" strike="noStrike">
                <a:solidFill>
                  <a:srgbClr val="dbf5f9"/>
                </a:solidFill>
                <a:latin typeface="Calibri"/>
              </a:rPr>
              <a:t>Les principes de la démarche qualité dans un dépôt d'urgence ou relais</a:t>
            </a:r>
            <a:endParaRPr b="0" lang="en-US" sz="5000" spc="-1" strike="noStrike">
              <a:solidFill>
                <a:srgbClr val="dbf5f9"/>
              </a:solidFill>
              <a:latin typeface="Calibri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"/>
          <p:cNvSpPr/>
          <p:nvPr/>
        </p:nvSpPr>
        <p:spPr>
          <a:xfrm>
            <a:off x="785880" y="2143080"/>
            <a:ext cx="7772400" cy="192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68200" indent="-2682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004e6d"/>
                </a:solidFill>
                <a:latin typeface="Constantia"/>
                <a:ea typeface="Arial Unicode MS"/>
              </a:rPr>
              <a:t>Maîtrise des ressources humain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004e6d"/>
                </a:solidFill>
                <a:latin typeface="Constantia"/>
                <a:ea typeface="Arial Unicode MS"/>
              </a:rPr>
              <a:t>Maîtrise des ressources techniq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004e6d"/>
                </a:solidFill>
                <a:latin typeface="Constantia"/>
                <a:ea typeface="Arial Unicode MS"/>
              </a:rPr>
              <a:t>Maîtrise des docu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/>
          <p:nvPr/>
        </p:nvSpPr>
        <p:spPr>
          <a:xfrm>
            <a:off x="785880" y="2498760"/>
            <a:ext cx="7772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083763"/>
                </a:solidFill>
                <a:latin typeface="Calibri"/>
                <a:ea typeface="Arial Unicode MS"/>
              </a:rPr>
              <a:t>MAITRISE DES RESSOURCES HUMA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457200" y="430200"/>
            <a:ext cx="8229600" cy="1417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500"/>
            </a:b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85840" y="1857240"/>
            <a:ext cx="7772400" cy="350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2880" indent="-2682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02303e"/>
                </a:solidFill>
                <a:latin typeface="Constantia"/>
                <a:ea typeface="Arial Unicode MS"/>
              </a:rPr>
              <a:t>Organigramm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38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02303e"/>
                </a:solidFill>
                <a:latin typeface="Constantia"/>
                <a:ea typeface="Arial Unicode MS"/>
              </a:rPr>
              <a:t>Fiches de fonction ou de poste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3840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02303e"/>
                </a:solidFill>
                <a:latin typeface="Constantia"/>
                <a:ea typeface="Arial Unicode MS"/>
              </a:rPr>
              <a:t>Qualification et formation du personnel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72880" indent="-268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4400" spc="-1" strike="noStrike">
                <a:solidFill>
                  <a:srgbClr val="009dd9"/>
                </a:solidFill>
                <a:latin typeface="Constantia"/>
                <a:ea typeface="Arial Unicode MS"/>
              </a:rPr>
              <a:t>	</a:t>
            </a:r>
            <a:r>
              <a:rPr b="0" lang="fr-FR" sz="4400" spc="-1" strike="noStrike">
                <a:solidFill>
                  <a:srgbClr val="009dd9"/>
                </a:solidFill>
                <a:latin typeface="Constantia"/>
                <a:ea typeface="Arial Unicode MS"/>
              </a:rPr>
              <a:t> 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-</a:t>
            </a:r>
            <a:r>
              <a:rPr b="0" lang="fr-FR" sz="2600" spc="-1" strike="noStrike">
                <a:solidFill>
                  <a:srgbClr val="083763"/>
                </a:solidFill>
                <a:latin typeface="Constantia"/>
                <a:ea typeface="Arial Unicode MS"/>
              </a:rPr>
              <a:t>Habilitation aux opérations de travai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68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83763"/>
                </a:solidFill>
                <a:latin typeface="Constantia"/>
                <a:ea typeface="Arial Unicode MS"/>
              </a:rPr>
              <a:t>	</a:t>
            </a:r>
            <a:r>
              <a:rPr b="0" lang="fr-FR" sz="2600" spc="-1" strike="noStrike">
                <a:solidFill>
                  <a:srgbClr val="083763"/>
                </a:solidFill>
                <a:latin typeface="Constantia"/>
                <a:ea typeface="Arial Unicode MS"/>
              </a:rPr>
              <a:t> </a:t>
            </a:r>
            <a:r>
              <a:rPr b="0" lang="fr-FR" sz="2600" spc="-1" strike="noStrike">
                <a:solidFill>
                  <a:srgbClr val="083763"/>
                </a:solidFill>
                <a:latin typeface="Constantia"/>
                <a:ea typeface="Arial Unicode MS"/>
              </a:rPr>
              <a:t>- Evaluation annuelle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68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83763"/>
                </a:solidFill>
                <a:latin typeface="Constantia"/>
                <a:ea typeface="Arial Unicode MS"/>
              </a:rPr>
              <a:t>	</a:t>
            </a:r>
            <a:r>
              <a:rPr b="0" lang="fr-FR" sz="2600" spc="-1" strike="noStrike">
                <a:solidFill>
                  <a:srgbClr val="083763"/>
                </a:solidFill>
                <a:latin typeface="Constantia"/>
                <a:ea typeface="Arial Unicode MS"/>
              </a:rPr>
              <a:t> </a:t>
            </a:r>
            <a:r>
              <a:rPr b="0" lang="fr-FR" sz="2600" spc="-1" strike="noStrike">
                <a:solidFill>
                  <a:srgbClr val="083763"/>
                </a:solidFill>
                <a:latin typeface="Constantia"/>
                <a:ea typeface="Arial Unicode MS"/>
              </a:rPr>
              <a:t>- Plan de formation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357120" y="1071720"/>
            <a:ext cx="77724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083763"/>
                </a:solidFill>
                <a:latin typeface="Calibri"/>
              </a:rPr>
              <a:t>MAITRISE DES RESSOURCES HUMAIN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428760" y="2857680"/>
            <a:ext cx="8229600" cy="206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68200" indent="-2682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Les réfrigérateurs, congélateu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Les décongélateurs à plasma ou bain-marie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Le système de transport des produits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357120" y="1143000"/>
            <a:ext cx="8229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002060"/>
                </a:solidFill>
                <a:latin typeface="Calibri"/>
                <a:ea typeface="Arial Unicode MS"/>
              </a:rPr>
              <a:t>MAITRISE DES RESSOURCES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"/>
          <p:cNvSpPr/>
          <p:nvPr/>
        </p:nvSpPr>
        <p:spPr>
          <a:xfrm>
            <a:off x="357120" y="1143000"/>
            <a:ext cx="8229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002060"/>
                </a:solidFill>
                <a:latin typeface="Calibri"/>
              </a:rPr>
              <a:t>MAITRISE DES RESSOURCES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395280" y="1935000"/>
            <a:ext cx="8291520" cy="415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6820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onstantia"/>
              </a:rPr>
              <a:t>Qualification du matériel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68200">
              <a:lnSpc>
                <a:spcPct val="100000"/>
              </a:lnSpc>
              <a:spcBef>
                <a:spcPts val="649"/>
              </a:spcBef>
              <a:buClr>
                <a:srgbClr val="083763"/>
              </a:buClr>
              <a:buFont typeface="Constantia"/>
              <a:buChar char="•"/>
              <a:tabLst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083763"/>
                </a:solidFill>
                <a:latin typeface="Constantia"/>
              </a:rPr>
              <a:t>Consiste à démontrer qu’un matériel fonctionne correctement et donne réellement les résultats attend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68200">
              <a:lnSpc>
                <a:spcPct val="90000"/>
              </a:lnSpc>
              <a:spcBef>
                <a:spcPts val="601"/>
              </a:spcBef>
              <a:buClr>
                <a:srgbClr val="083763"/>
              </a:buClr>
              <a:buFont typeface="Constantia"/>
              <a:buChar char="•"/>
              <a:tabLst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83763"/>
                </a:solidFill>
                <a:latin typeface="Constantia"/>
              </a:rPr>
              <a:t>Qualification du matériel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68200">
              <a:lnSpc>
                <a:spcPct val="13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nstantia"/>
              </a:rPr>
              <a:t>A l’install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682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nstantia"/>
              </a:rPr>
              <a:t>Après réparation ou adaptation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68200">
              <a:lnSpc>
                <a:spcPct val="12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nstantia"/>
              </a:rPr>
              <a:t>Si doute sur le fonctionnement correct de l’apparei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68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/>
          <p:nvPr/>
        </p:nvSpPr>
        <p:spPr>
          <a:xfrm>
            <a:off x="324000" y="1935000"/>
            <a:ext cx="8362800" cy="43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6820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onstantia"/>
              </a:rPr>
              <a:t>Maintenance du matéri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682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83763"/>
                </a:solidFill>
                <a:latin typeface="Constantia"/>
              </a:rPr>
              <a:t>permet de garantir les performances de l’appareil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6820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83763"/>
                </a:solidFill>
                <a:latin typeface="Constantia"/>
              </a:rPr>
              <a:t>préconisée et réalisée par le fournisseur ou en interne</a:t>
            </a: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72880" indent="-26820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83763"/>
                </a:solidFill>
                <a:latin typeface="Constantia"/>
              </a:rPr>
              <a:t> </a:t>
            </a:r>
            <a:r>
              <a:rPr b="1" lang="fr-FR" sz="2400" spc="-1" strike="noStrike" u="sng">
                <a:solidFill>
                  <a:srgbClr val="000000"/>
                </a:solidFill>
                <a:uFillTx/>
                <a:latin typeface="Arial"/>
              </a:rPr>
              <a:t>Et il ne faut pas oublier d’enregist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68200">
              <a:lnSpc>
                <a:spcPct val="100000"/>
              </a:lnSpc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registrement du nettoyag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68200">
              <a:lnSpc>
                <a:spcPct val="100000"/>
              </a:lnSpc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registrement des maintenanc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68200">
              <a:lnSpc>
                <a:spcPct val="100000"/>
              </a:lnSpc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Arial"/>
              </a:rPr>
              <a:t>Enregistrement des températ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68200">
              <a:lnSpc>
                <a:spcPct val="100000"/>
              </a:lnSpc>
              <a:spcBef>
                <a:spcPts val="9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57120" y="1143000"/>
            <a:ext cx="82296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002060"/>
                </a:solidFill>
                <a:latin typeface="Calibri"/>
              </a:rPr>
              <a:t>MAITRISE DES RESSOURCES TECHNIQ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"/>
          <p:cNvSpPr/>
          <p:nvPr/>
        </p:nvSpPr>
        <p:spPr>
          <a:xfrm>
            <a:off x="2214720" y="647640"/>
            <a:ext cx="5416560" cy="843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002060"/>
                </a:solidFill>
                <a:latin typeface="Calibri"/>
                <a:ea typeface="Arial Unicode MS"/>
              </a:rPr>
              <a:t>MAÎTRISE DES DOC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457200" y="1935000"/>
            <a:ext cx="8229600" cy="368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2880" indent="-268200" algn="ctr">
              <a:lnSpc>
                <a:spcPct val="130000"/>
              </a:lnSpc>
              <a:spcBef>
                <a:spcPts val="64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La documentation comprend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68200">
              <a:lnSpc>
                <a:spcPct val="130000"/>
              </a:lnSpc>
              <a:spcBef>
                <a:spcPts val="2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243000">
              <a:lnSpc>
                <a:spcPct val="13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"/>
              <a:tabLst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onstantia"/>
                <a:ea typeface="Arial Unicode MS"/>
              </a:rPr>
              <a:t>Les documents internes </a:t>
            </a:r>
            <a:r>
              <a:rPr b="1" i="1" lang="fr-FR" sz="2400" spc="-1" strike="noStrike">
                <a:solidFill>
                  <a:srgbClr val="002060"/>
                </a:solidFill>
                <a:latin typeface="Constantia"/>
                <a:ea typeface="Arial Unicode MS"/>
              </a:rPr>
              <a:t>(procédure, mode opératoire, enregistrements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243000">
              <a:lnSpc>
                <a:spcPct val="130000"/>
              </a:lnSpc>
              <a:spcBef>
                <a:spcPts val="2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243000">
              <a:lnSpc>
                <a:spcPct val="130000"/>
              </a:lnSpc>
              <a:spcBef>
                <a:spcPts val="201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243000">
              <a:lnSpc>
                <a:spcPct val="13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" charset="2"/>
              <a:buChar char=""/>
              <a:tabLst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2060"/>
                </a:solidFill>
                <a:latin typeface="Constantia"/>
                <a:ea typeface="Arial Unicode MS"/>
              </a:rPr>
              <a:t>Les documents externes </a:t>
            </a:r>
            <a:r>
              <a:rPr b="1" i="1" lang="fr-FR" sz="2400" spc="-1" strike="noStrike">
                <a:solidFill>
                  <a:srgbClr val="002060"/>
                </a:solidFill>
                <a:latin typeface="Constantia"/>
                <a:ea typeface="Arial Unicode MS"/>
              </a:rPr>
              <a:t>(textes réglementaires, manuel utilisation matériel..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68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"/>
          <p:cNvSpPr/>
          <p:nvPr/>
        </p:nvSpPr>
        <p:spPr>
          <a:xfrm>
            <a:off x="360360" y="1655640"/>
            <a:ext cx="8326440" cy="496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8200" indent="-268200" algn="just">
              <a:lnSpc>
                <a:spcPct val="100000"/>
              </a:lnSpc>
              <a:spcBef>
                <a:spcPts val="1624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onstantia"/>
              </a:rPr>
              <a:t>Procédures : </a:t>
            </a:r>
            <a:r>
              <a:rPr b="0" lang="fr-FR" sz="2600" spc="-1" strike="noStrike">
                <a:solidFill>
                  <a:srgbClr val="0f6fc6"/>
                </a:solidFill>
                <a:latin typeface="Constantia"/>
              </a:rPr>
              <a:t>décrivent une activité ou un processu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 algn="just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onstantia"/>
              </a:rPr>
              <a:t>Modes opératoires :</a:t>
            </a:r>
            <a:r>
              <a:rPr b="0" lang="fr-FR" sz="2600" spc="-1" strike="noStrike">
                <a:solidFill>
                  <a:srgbClr val="0f6fc6"/>
                </a:solidFill>
                <a:latin typeface="Constantia"/>
              </a:rPr>
              <a:t> décrivent précisément la manière d’accomplir une tache dans le cadre d’une procédure et des exigences réglementai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49"/>
              </a:spcBef>
              <a:buClr>
                <a:srgbClr val="0f6fc6"/>
              </a:buClr>
              <a:buFont typeface="Constantia"/>
              <a:buChar char="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0f6fc6"/>
                </a:solidFill>
                <a:latin typeface="Constantia"/>
              </a:rPr>
              <a:t>Qui les écri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nstantia"/>
              <a:buChar char="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onstantia"/>
              </a:rPr>
              <a:t>Qui les vérifie ?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Constantia"/>
              <a:buChar char="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onstantia"/>
              </a:rPr>
              <a:t>Qui les valide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onstantia"/>
              </a:rPr>
              <a:t>Quand et comment sont-ils diffusés  puis  archivés 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1008000" y="1017720"/>
            <a:ext cx="585000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002060"/>
                </a:solidFill>
                <a:latin typeface="Calibri"/>
              </a:rPr>
              <a:t>MAÎTRISE DES DOC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48" name=""/>
          <p:cNvGrpSpPr/>
          <p:nvPr/>
        </p:nvGrpSpPr>
        <p:grpSpPr>
          <a:xfrm>
            <a:off x="395280" y="2060640"/>
            <a:ext cx="8310600" cy="3517920"/>
            <a:chOff x="395280" y="2060640"/>
            <a:chExt cx="8310600" cy="3517920"/>
          </a:xfrm>
        </p:grpSpPr>
        <p:pic>
          <p:nvPicPr>
            <p:cNvPr id="249" name="" descr=""/>
            <p:cNvPicPr/>
            <p:nvPr/>
          </p:nvPicPr>
          <p:blipFill>
            <a:blip r:embed="rId2"/>
            <a:stretch/>
          </p:blipFill>
          <p:spPr>
            <a:xfrm>
              <a:off x="395280" y="2060640"/>
              <a:ext cx="8310600" cy="3517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50" name=""/>
            <p:cNvSpPr/>
            <p:nvPr/>
          </p:nvSpPr>
          <p:spPr>
            <a:xfrm>
              <a:off x="395280" y="2060640"/>
              <a:ext cx="8310600" cy="3517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714240" y="1089000"/>
            <a:ext cx="7097760" cy="47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800" spc="-1" strike="noStrike">
                <a:solidFill>
                  <a:srgbClr val="002060"/>
                </a:solidFill>
                <a:latin typeface="Calibri"/>
              </a:rPr>
              <a:t>MAÎTRISE DES DOCUMENT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457200" y="704880"/>
            <a:ext cx="8229600" cy="10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>
              <a:lnSpc>
                <a:spcPct val="100000"/>
              </a:lnSpc>
              <a:spcBef>
                <a:spcPts val="1939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100" spc="-1" strike="noStrike">
                <a:solidFill>
                  <a:srgbClr val="002060"/>
                </a:solidFill>
                <a:latin typeface="Calibri"/>
                <a:ea typeface="Arial Unicode MS"/>
              </a:rPr>
              <a:t>SURVEILLANCE DU SYSTEME - MESURER- VÉRIFIER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457200" y="1935000"/>
            <a:ext cx="8229600" cy="364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lvl="1" marL="639720" indent="-241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3972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623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Les contrôle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1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3972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623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fr-FR" sz="2400" spc="-1" strike="noStrike">
                <a:solidFill>
                  <a:srgbClr val="009dd9"/>
                </a:solidFill>
                <a:latin typeface="Constantia"/>
                <a:ea typeface="Arial Unicode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Les indicateurs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1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3972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623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fr-FR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Les aud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1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3972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623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fr-FR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Les vi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9720" indent="-241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63972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623520"/>
                <a:tab algn="l" pos="9883800"/>
                <a:tab algn="l" pos="10333080"/>
                <a:tab algn="l" pos="1078236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fr-FR" sz="32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Les inspec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1440" indent="-268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639720"/>
                <a:tab algn="l" pos="1087560"/>
                <a:tab algn="l" pos="1536840"/>
                <a:tab algn="l" pos="1986120"/>
                <a:tab algn="l" pos="2435400"/>
                <a:tab algn="l" pos="2884320"/>
                <a:tab algn="l" pos="3333600"/>
                <a:tab algn="l" pos="3782880"/>
                <a:tab algn="l" pos="4232160"/>
                <a:tab algn="l" pos="4681440"/>
                <a:tab algn="l" pos="5130720"/>
                <a:tab algn="l" pos="5580000"/>
                <a:tab algn="l" pos="6029280"/>
                <a:tab algn="l" pos="6478560"/>
                <a:tab algn="l" pos="6927840"/>
                <a:tab algn="l" pos="7377120"/>
                <a:tab algn="l" pos="7826400"/>
                <a:tab algn="l" pos="8275680"/>
                <a:tab algn="l" pos="8724960"/>
                <a:tab algn="l" pos="9174240"/>
                <a:tab algn="l" pos="9623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5000" spc="-1" strike="noStrike">
                <a:solidFill>
                  <a:srgbClr val="ff0000"/>
                </a:solidFill>
                <a:latin typeface="Calibri"/>
                <a:ea typeface="Arial Unicode MS"/>
              </a:rPr>
              <a:t>OBJECTIF DE LA QUALITE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428760" y="3071880"/>
            <a:ext cx="8229600" cy="128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2880" indent="-268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600" spc="-1" strike="noStrike" u="sng">
                <a:solidFill>
                  <a:srgbClr val="000000"/>
                </a:solidFill>
                <a:uFillTx/>
                <a:latin typeface="Constantia"/>
                <a:ea typeface="Times New Roman"/>
              </a:rPr>
              <a:t>Qualité</a:t>
            </a:r>
            <a:r>
              <a:rPr b="1" lang="fr-FR" sz="2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: </a:t>
            </a:r>
            <a:r>
              <a:rPr b="1" i="1" lang="fr-FR" sz="2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« aptitude d’un produit ou d’un service à satisfaire les besoins exprimés ou implicites d’un client »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457200" y="1428840"/>
            <a:ext cx="82296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LES CONTRÔ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457200" y="1935000"/>
            <a:ext cx="8229600" cy="306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8200" indent="-2682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9dd9"/>
                </a:solidFill>
                <a:latin typeface="Constantia"/>
              </a:rPr>
              <a:t> 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Ex:</a:t>
            </a:r>
            <a:r>
              <a:rPr b="0" lang="fr-FR" sz="2600" spc="-1" strike="noStrike">
                <a:solidFill>
                  <a:srgbClr val="009dd9"/>
                </a:solidFill>
                <a:latin typeface="Constantia"/>
              </a:rPr>
              <a:t> 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Contrôles de conformité des ordonnances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2430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Font typeface="Wingdings 2" charset="2"/>
              <a:buChar char="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  <a:ea typeface="Arial"/>
              </a:rPr>
              <a:t>(identité du patient, nom et signature du prescripteur, type de produit…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</a:rPr>
              <a:t>Ex:Vérification de la délivrance d’un produit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2430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Font typeface="Wingdings 2" charset="2"/>
              <a:buChar char="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  <a:ea typeface="Arial"/>
              </a:rPr>
              <a:t>(qualité du produit, vérification des prélèvements pour groupage, vérification des documents de délivrance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457200" y="750960"/>
            <a:ext cx="8229600" cy="8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500"/>
            </a:b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LES INDIC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68200" indent="-268200">
              <a:lnSpc>
                <a:spcPct val="100000"/>
              </a:lnSpc>
              <a:spcBef>
                <a:spcPts val="1500"/>
              </a:spcBef>
              <a:buClr>
                <a:srgbClr val="009dd9"/>
              </a:buClr>
              <a:buFont typeface="Wingdings" charset="2"/>
              <a:buChar char="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nstantia"/>
              </a:rPr>
              <a:t>Servent au pilotage d’une démarche ou d’un système    qualité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75000"/>
              </a:lnSpc>
              <a:spcBef>
                <a:spcPts val="1500"/>
              </a:spcBef>
              <a:buClr>
                <a:srgbClr val="009dd9"/>
              </a:buClr>
              <a:buFont typeface="Wingdings" charset="2"/>
              <a:buChar char="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nstantia"/>
              </a:rPr>
              <a:t> </a:t>
            </a:r>
            <a:r>
              <a:rPr b="1" lang="fr-FR" sz="2400" spc="-1" strike="noStrike">
                <a:solidFill>
                  <a:srgbClr val="000000"/>
                </a:solidFill>
                <a:latin typeface="Constantia"/>
              </a:rPr>
              <a:t>Pour remplir cette fonction, ils doivent être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1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nstantia"/>
                <a:ea typeface="Arial"/>
              </a:rPr>
              <a:t>Pertinents</a:t>
            </a:r>
            <a:r>
              <a:rPr b="0" lang="fr-FR" sz="20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1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nstantia"/>
                <a:ea typeface="Arial"/>
              </a:rPr>
              <a:t>Fiables</a:t>
            </a:r>
            <a:r>
              <a:rPr b="0" lang="fr-FR" sz="20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nstantia"/>
                <a:ea typeface="Arial"/>
              </a:rPr>
              <a:t>    </a:t>
            </a:r>
            <a:r>
              <a:rPr b="0" lang="fr-FR" sz="20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nstantia"/>
                <a:ea typeface="Arial"/>
              </a:rPr>
              <a:t>	</a:t>
            </a:r>
            <a:r>
              <a:rPr b="0" lang="fr-FR" sz="2000" spc="-1" strike="noStrike">
                <a:solidFill>
                  <a:srgbClr val="000000"/>
                </a:solidFill>
                <a:latin typeface="Constantia"/>
                <a:ea typeface="Arial"/>
              </a:rPr>
              <a:t>  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1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nstantia"/>
                <a:ea typeface="Arial"/>
              </a:rPr>
              <a:t>Faciles à mettre en œuvr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1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nstantia"/>
                <a:ea typeface="Arial"/>
              </a:rPr>
              <a:t>Fidèl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indent="-241200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Constantia"/>
                <a:ea typeface="Arial"/>
              </a:rPr>
              <a:t>Compris par le personn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"/>
          <p:cNvSpPr/>
          <p:nvPr/>
        </p:nvSpPr>
        <p:spPr>
          <a:xfrm>
            <a:off x="457200" y="1935000"/>
            <a:ext cx="8229600" cy="223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68200" indent="-2682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Définir un ou des objecti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Choisir un ou plusieurs indicateurs permettant de mesurer l’atteinte des objectif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Suivre cet (ces) indicateur(s) pendant  un temps défini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457200" y="750960"/>
            <a:ext cx="8229600" cy="109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br>
              <a:rPr sz="4500"/>
            </a:br>
            <a:r>
              <a:rPr b="1" lang="fr-FR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LES INDICATEU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"/>
          <p:cNvSpPr/>
          <p:nvPr/>
        </p:nvSpPr>
        <p:spPr>
          <a:xfrm>
            <a:off x="457200" y="1428840"/>
            <a:ext cx="82296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LES AUD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457200" y="1935000"/>
            <a:ext cx="8229600" cy="356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68200" indent="-2682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Examen indépendant au cours duquel l’auditeur vérifie si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tabLst>
                <a:tab algn="l" pos="0"/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 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la conformité aux exigences du référenti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25000"/>
              </a:lnSpc>
              <a:spcBef>
                <a:spcPts val="649"/>
              </a:spcBef>
              <a:tabLst>
                <a:tab algn="l" pos="0"/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 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l’application des procédu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25000"/>
              </a:lnSpc>
              <a:spcBef>
                <a:spcPts val="649"/>
              </a:spcBef>
              <a:tabLst>
                <a:tab algn="l" pos="0"/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 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l’existence de preu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Les audits sont assurés par des personnes habilité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"/>
          <p:cNvSpPr/>
          <p:nvPr/>
        </p:nvSpPr>
        <p:spPr>
          <a:xfrm>
            <a:off x="457200" y="1935000"/>
            <a:ext cx="8229600" cy="34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68200" indent="-2682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Au cours de l’audit des écarts ou remarques sont relevés par les auditeur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 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recherche des causes des écar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 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mise en place des actions appropriées : action curative ou action corrective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36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 </a:t>
            </a:r>
            <a:r>
              <a:rPr b="0" lang="fr-FR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suivi de leur efficacité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457200" y="1428840"/>
            <a:ext cx="82296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LES AUDI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"/>
          <p:cNvSpPr/>
          <p:nvPr/>
        </p:nvSpPr>
        <p:spPr>
          <a:xfrm>
            <a:off x="457200" y="1428840"/>
            <a:ext cx="82296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LES VISI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Au moins une fois par an , l’ETS référent assure une visite de suivi en présence du responsable du dépôt et du directeur de l’ES ou de son représenta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"/>
          <p:cNvSpPr/>
          <p:nvPr/>
        </p:nvSpPr>
        <p:spPr>
          <a:xfrm>
            <a:off x="457200" y="1467000"/>
            <a:ext cx="8229600" cy="380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200" spc="-1" strike="noStrike">
                <a:solidFill>
                  <a:srgbClr val="000000"/>
                </a:solidFill>
                <a:latin typeface="Calibri"/>
                <a:ea typeface="Arial Unicode MS"/>
              </a:rPr>
              <a:t>LES INSPE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457200" y="1935000"/>
            <a:ext cx="8229600" cy="363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68200" indent="-268200" algn="just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Une inspection de l’ARS  doit avoir lieu dans les cinq a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Elle permet de vérifier que le dépôt répond aux exigences du référentiel des bonnes pratiqu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"/>
          <p:cNvSpPr/>
          <p:nvPr/>
        </p:nvSpPr>
        <p:spPr>
          <a:xfrm>
            <a:off x="357120" y="1000080"/>
            <a:ext cx="82296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</a:rPr>
              <a:t>AMÉLIOR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428760" y="1500120"/>
            <a:ext cx="8229600" cy="55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72880" indent="-268200" algn="ctr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onstantia"/>
              </a:rPr>
              <a:t>= la gestion des non conformités, des actions correctives et préventi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68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9dd9"/>
                </a:solidFill>
                <a:latin typeface="Constantia"/>
              </a:rPr>
              <a:t>Fiches d’anomalies, les non conformités internes et externe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68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9dd9"/>
                </a:solidFill>
                <a:latin typeface="Constantia"/>
              </a:rPr>
              <a:t>Traitement immédiat qui règle ponctuellement le problèm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68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9dd9"/>
                </a:solidFill>
                <a:latin typeface="Constantia"/>
              </a:rPr>
              <a:t>Analyser les causes pour mettre en place une ou des actions correctives afin d’éviter le renouvellement de l’anomali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68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Font typeface="Wingdings 2" charset="2"/>
              <a:buChar char=""/>
              <a:tabLst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9dd9"/>
                </a:solidFill>
                <a:latin typeface="Constantia"/>
              </a:rPr>
              <a:t>Suivre l’efficacité de ces actions correc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72880" indent="-268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68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68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"/>
          <p:cNvSpPr/>
          <p:nvPr/>
        </p:nvSpPr>
        <p:spPr>
          <a:xfrm>
            <a:off x="457200" y="1428840"/>
            <a:ext cx="8229600" cy="4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Calibri"/>
                <a:ea typeface="Arial Unicode MS"/>
              </a:rPr>
              <a:t>LES ACTIONS PRÉVENTIV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457200" y="1935000"/>
            <a:ext cx="8229600" cy="335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68200" indent="-2682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Une action préventive est mise en œuvre suite à la détection d’un risque potentiel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2430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à partir d’une non conformité observée dans un autre dépô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635040" indent="-243000">
              <a:lnSpc>
                <a:spcPct val="100000"/>
              </a:lnSpc>
              <a:spcBef>
                <a:spcPts val="601"/>
              </a:spcBef>
              <a:buClr>
                <a:srgbClr val="0f6fc6"/>
              </a:buClr>
              <a:buSzPct val="85000"/>
              <a:buFont typeface="Wingdings 2" charset="2"/>
              <a:buChar char="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Constantia"/>
                <a:ea typeface="Times New Roman"/>
              </a:rPr>
              <a:t>dans le cadre de d’évolutions d’activités, telles que : mise en place de nouvelles techniques, modification de la réglementation, </a:t>
            </a:r>
            <a:r>
              <a:rPr b="0" lang="fr-FR" sz="2400" spc="-1" strike="noStrike">
                <a:solidFill>
                  <a:srgbClr val="000000"/>
                </a:solidFill>
                <a:latin typeface="Arial"/>
                <a:ea typeface="Times New Roman"/>
              </a:rPr>
              <a:t>…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457200" y="70488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5000" spc="-1" strike="noStrike">
                <a:solidFill>
                  <a:srgbClr val="ff0000"/>
                </a:solidFill>
                <a:latin typeface="Calibri"/>
                <a:ea typeface="Arial Unicode MS"/>
              </a:rPr>
              <a:t>DÉFINITION</a:t>
            </a:r>
            <a:endParaRPr b="0" lang="en-US" sz="5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42920" y="2571840"/>
            <a:ext cx="8786880" cy="2000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936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79360"/>
                <a:tab algn="l" pos="727200"/>
                <a:tab algn="l" pos="1176480"/>
                <a:tab algn="l" pos="1625760"/>
                <a:tab algn="l" pos="2075040"/>
                <a:tab algn="l" pos="2523960"/>
                <a:tab algn="l" pos="2973240"/>
                <a:tab algn="l" pos="3422520"/>
                <a:tab algn="l" pos="3871800"/>
                <a:tab algn="l" pos="4321080"/>
                <a:tab algn="l" pos="4770360"/>
                <a:tab algn="l" pos="5219640"/>
                <a:tab algn="l" pos="5668920"/>
                <a:tab algn="l" pos="6118200"/>
                <a:tab algn="l" pos="6567480"/>
                <a:tab algn="l" pos="7016760"/>
                <a:tab algn="l" pos="7466040"/>
                <a:tab algn="l" pos="7915320"/>
                <a:tab algn="l" pos="8364600"/>
                <a:tab algn="l" pos="8813880"/>
                <a:tab algn="l" pos="9263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La qualité peut se définir comme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93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279360"/>
                <a:tab algn="l" pos="727200"/>
                <a:tab algn="l" pos="1176480"/>
                <a:tab algn="l" pos="1625760"/>
                <a:tab algn="l" pos="2075040"/>
                <a:tab algn="l" pos="2523960"/>
                <a:tab algn="l" pos="2973240"/>
                <a:tab algn="l" pos="3422520"/>
                <a:tab algn="l" pos="3871800"/>
                <a:tab algn="l" pos="4321080"/>
                <a:tab algn="l" pos="4770360"/>
                <a:tab algn="l" pos="5219640"/>
                <a:tab algn="l" pos="5668920"/>
                <a:tab algn="l" pos="6118200"/>
                <a:tab algn="l" pos="6567480"/>
                <a:tab algn="l" pos="7016760"/>
                <a:tab algn="l" pos="7466040"/>
                <a:tab algn="l" pos="7915320"/>
                <a:tab algn="l" pos="8364600"/>
                <a:tab algn="l" pos="8813880"/>
                <a:tab algn="l" pos="9263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1" lang="fr-FR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1" lang="fr-FR" sz="2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1" lang="fr-FR" sz="2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La satisfaction aux </a:t>
            </a:r>
            <a:r>
              <a:rPr b="1" lang="fr-FR" sz="2600" spc="-1" strike="noStrike">
                <a:solidFill>
                  <a:srgbClr val="0f6fc6"/>
                </a:solidFill>
                <a:latin typeface="Constantia"/>
                <a:ea typeface="Times New Roman"/>
              </a:rPr>
              <a:t>exigences réglementair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936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279360"/>
                <a:tab algn="l" pos="727200"/>
                <a:tab algn="l" pos="1176480"/>
                <a:tab algn="l" pos="1625760"/>
                <a:tab algn="l" pos="2075040"/>
                <a:tab algn="l" pos="2523960"/>
                <a:tab algn="l" pos="2973240"/>
                <a:tab algn="l" pos="3422520"/>
                <a:tab algn="l" pos="3871800"/>
                <a:tab algn="l" pos="4321080"/>
                <a:tab algn="l" pos="4770360"/>
                <a:tab algn="l" pos="5219640"/>
                <a:tab algn="l" pos="5668920"/>
                <a:tab algn="l" pos="6118200"/>
                <a:tab algn="l" pos="6567480"/>
                <a:tab algn="l" pos="7016760"/>
                <a:tab algn="l" pos="7466040"/>
                <a:tab algn="l" pos="7915320"/>
                <a:tab algn="l" pos="8364600"/>
                <a:tab algn="l" pos="8813880"/>
                <a:tab algn="l" pos="926316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1" lang="fr-FR" sz="2600" spc="-1" strike="noStrike">
                <a:solidFill>
                  <a:srgbClr val="000000"/>
                </a:solidFill>
                <a:latin typeface="Wingdings"/>
                <a:ea typeface="Wingdings"/>
              </a:rPr>
              <a:t></a:t>
            </a:r>
            <a:r>
              <a:rPr b="1" lang="fr-FR" sz="2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1" lang="fr-FR" sz="2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La satisfaction </a:t>
            </a:r>
            <a:r>
              <a:rPr b="1" lang="fr-FR" sz="2600" spc="-1" strike="noStrike">
                <a:solidFill>
                  <a:srgbClr val="0f6fc6"/>
                </a:solidFill>
                <a:latin typeface="Constantia"/>
                <a:ea typeface="Times New Roman"/>
              </a:rPr>
              <a:t>aux exigences</a:t>
            </a:r>
            <a:r>
              <a:rPr b="1" lang="fr-FR" sz="2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r>
              <a:rPr b="1" lang="fr-FR" sz="2600" spc="-1" strike="noStrike">
                <a:solidFill>
                  <a:srgbClr val="0f6fc6"/>
                </a:solidFill>
                <a:latin typeface="Constantia"/>
                <a:ea typeface="Times New Roman"/>
              </a:rPr>
              <a:t>du client</a:t>
            </a:r>
            <a:r>
              <a:rPr b="1" lang="fr-FR" sz="2600" spc="-1" strike="noStrike">
                <a:solidFill>
                  <a:srgbClr val="000000"/>
                </a:solidFill>
                <a:latin typeface="Constantia"/>
                <a:ea typeface="Times New Roman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500040" y="785880"/>
            <a:ext cx="8229600" cy="56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200" spc="-1" strike="noStrike">
                <a:solidFill>
                  <a:srgbClr val="ff0000"/>
                </a:solidFill>
                <a:latin typeface="Calibri"/>
                <a:ea typeface="Arial Unicode MS"/>
              </a:rPr>
              <a:t>ASSURANCE</a:t>
            </a:r>
            <a:r>
              <a:rPr b="1" lang="fr-FR" sz="3200" spc="-1" strike="noStrike">
                <a:solidFill>
                  <a:srgbClr val="0000ff"/>
                </a:solidFill>
                <a:latin typeface="Calibri"/>
                <a:ea typeface="Arial Unicode MS"/>
              </a:rPr>
              <a:t> </a:t>
            </a:r>
            <a:r>
              <a:rPr b="1" lang="fr-FR" sz="3200" spc="-1" strike="noStrike">
                <a:solidFill>
                  <a:srgbClr val="ff0000"/>
                </a:solidFill>
                <a:latin typeface="Calibri"/>
                <a:ea typeface="Arial Unicode MS"/>
              </a:rPr>
              <a:t>QUALITE – LE PD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1" name=""/>
          <p:cNvGrpSpPr/>
          <p:nvPr/>
        </p:nvGrpSpPr>
        <p:grpSpPr>
          <a:xfrm>
            <a:off x="-216000" y="1803240"/>
            <a:ext cx="4839120" cy="4383360"/>
            <a:chOff x="-216000" y="1803240"/>
            <a:chExt cx="4839120" cy="4383360"/>
          </a:xfrm>
        </p:grpSpPr>
        <p:sp>
          <p:nvSpPr>
            <p:cNvPr id="202" name=""/>
            <p:cNvSpPr/>
            <p:nvPr/>
          </p:nvSpPr>
          <p:spPr>
            <a:xfrm>
              <a:off x="3166560" y="1803240"/>
              <a:ext cx="1456560" cy="782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171720" rIns="171720" tIns="86040" bIns="8604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2000" spc="-1" strike="noStrike">
                  <a:solidFill>
                    <a:srgbClr val="3399ff"/>
                  </a:solidFill>
                  <a:latin typeface="Constantia"/>
                </a:rPr>
                <a:t>P = PLA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447840"/>
                  <a:tab algn="l" pos="896760"/>
                  <a:tab algn="l" pos="1346040"/>
                  <a:tab algn="l" pos="1795320"/>
                  <a:tab algn="l" pos="2244600"/>
                  <a:tab algn="l" pos="2693880"/>
                  <a:tab algn="l" pos="3143160"/>
                  <a:tab algn="l" pos="3592440"/>
                  <a:tab algn="l" pos="4041720"/>
                  <a:tab algn="l" pos="4491000"/>
                  <a:tab algn="l" pos="4940280"/>
                  <a:tab algn="l" pos="5389560"/>
                  <a:tab algn="l" pos="5838840"/>
                  <a:tab algn="l" pos="6288120"/>
                  <a:tab algn="l" pos="6737400"/>
                  <a:tab algn="l" pos="7186680"/>
                  <a:tab algn="l" pos="7635960"/>
                  <a:tab algn="l" pos="8085240"/>
                  <a:tab algn="l" pos="8534520"/>
                  <a:tab algn="l" pos="8983800"/>
                  <a:tab algn="l" pos="8985240"/>
                  <a:tab algn="l" pos="9434520"/>
                  <a:tab algn="l" pos="9883800"/>
                  <a:tab algn="l" pos="10333080"/>
                  <a:tab algn="l" pos="10782360"/>
                </a:tabLst>
              </a:pPr>
              <a:r>
                <a:rPr b="0" lang="fr-FR" sz="2000" spc="-1" strike="noStrike">
                  <a:solidFill>
                    <a:srgbClr val="3399ff"/>
                  </a:solidFill>
                  <a:latin typeface="Constantia"/>
                </a:rPr>
                <a:t>(Prévoir)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-216000" y="3525840"/>
              <a:ext cx="192240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04" name=""/>
          <p:cNvSpPr/>
          <p:nvPr/>
        </p:nvSpPr>
        <p:spPr>
          <a:xfrm>
            <a:off x="6880680" y="1571760"/>
            <a:ext cx="149472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1720" rIns="171720" tIns="86040" bIns="86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6600"/>
                </a:solidFill>
                <a:latin typeface="Constantia"/>
              </a:rPr>
              <a:t>D = D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006600"/>
                </a:solidFill>
                <a:latin typeface="Constantia"/>
              </a:rPr>
              <a:t>(Réaliser</a:t>
            </a:r>
            <a:r>
              <a:rPr b="0" lang="fr-FR" sz="2000" spc="-1" strike="noStrike">
                <a:solidFill>
                  <a:srgbClr val="006600"/>
                </a:solidFill>
                <a:latin typeface="Arial"/>
              </a:rPr>
              <a:t>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5" name=""/>
          <p:cNvGrpSpPr/>
          <p:nvPr/>
        </p:nvGrpSpPr>
        <p:grpSpPr>
          <a:xfrm>
            <a:off x="2664000" y="2160720"/>
            <a:ext cx="6243480" cy="3348000"/>
            <a:chOff x="2664000" y="2160720"/>
            <a:chExt cx="6243480" cy="3348000"/>
          </a:xfrm>
        </p:grpSpPr>
        <p:grpSp>
          <p:nvGrpSpPr>
            <p:cNvPr id="206" name=""/>
            <p:cNvGrpSpPr/>
            <p:nvPr/>
          </p:nvGrpSpPr>
          <p:grpSpPr>
            <a:xfrm>
              <a:off x="2664000" y="2160720"/>
              <a:ext cx="6243480" cy="3119040"/>
              <a:chOff x="2664000" y="2160720"/>
              <a:chExt cx="6243480" cy="3119040"/>
            </a:xfrm>
          </p:grpSpPr>
          <p:sp>
            <p:nvSpPr>
              <p:cNvPr id="207" name=""/>
              <p:cNvSpPr/>
              <p:nvPr/>
            </p:nvSpPr>
            <p:spPr>
              <a:xfrm>
                <a:off x="4609800" y="2769840"/>
                <a:ext cx="496440" cy="44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71720" rIns="171720" tIns="86040" bIns="86040" anchor="t">
                <a:spAutoFit/>
              </a:bodyPr>
              <a:p>
                <a:pPr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1800" spc="-1" strike="noStrike">
                    <a:solidFill>
                      <a:srgbClr val="3399ff"/>
                    </a:solidFill>
                    <a:latin typeface="Arial"/>
                  </a:rPr>
                  <a:t>P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8" name=""/>
              <p:cNvSpPr/>
              <p:nvPr/>
            </p:nvSpPr>
            <p:spPr>
              <a:xfrm>
                <a:off x="5753520" y="3832560"/>
                <a:ext cx="508680" cy="44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171720" rIns="171720" tIns="86040" bIns="86040" anchor="t">
                <a:spAutoFit/>
              </a:bodyPr>
              <a:p>
                <a:pPr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1800" spc="-1" strike="noStrike">
                    <a:solidFill>
                      <a:srgbClr val="9933ff"/>
                    </a:solidFill>
                    <a:latin typeface="Arial"/>
                  </a:rPr>
                  <a:t>C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09" name=""/>
              <p:cNvSpPr/>
              <p:nvPr/>
            </p:nvSpPr>
            <p:spPr>
              <a:xfrm>
                <a:off x="4492800" y="3832560"/>
                <a:ext cx="909360" cy="4467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71720" rIns="171720" tIns="86040" bIns="86040" anchor="t">
                <a:spAutoFit/>
              </a:bodyPr>
              <a:p>
                <a:pPr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1800" spc="-1" strike="noStrike">
                    <a:solidFill>
                      <a:srgbClr val="ff3300"/>
                    </a:solidFill>
                    <a:latin typeface="Arial"/>
                  </a:rPr>
                  <a:t>A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grpSp>
            <p:nvGrpSpPr>
              <p:cNvPr id="210" name=""/>
              <p:cNvGrpSpPr/>
              <p:nvPr/>
            </p:nvGrpSpPr>
            <p:grpSpPr>
              <a:xfrm>
                <a:off x="4118040" y="2312640"/>
                <a:ext cx="2571840" cy="2432160"/>
                <a:chOff x="4118040" y="2312640"/>
                <a:chExt cx="2571840" cy="2432160"/>
              </a:xfrm>
            </p:grpSpPr>
            <p:sp>
              <p:nvSpPr>
                <p:cNvPr id="211" name=""/>
                <p:cNvSpPr/>
                <p:nvPr/>
              </p:nvSpPr>
              <p:spPr>
                <a:xfrm>
                  <a:off x="4125960" y="2323440"/>
                  <a:ext cx="2552760" cy="2414520"/>
                </a:xfrm>
                <a:prstGeom prst="ellipse">
                  <a:avLst/>
                </a:prstGeom>
                <a:noFill/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>
                  <a:off x="5405400" y="2312640"/>
                  <a:ext cx="0" cy="243216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>
                  <a:off x="4118040" y="3533760"/>
                  <a:ext cx="2571840" cy="0"/>
                </a:xfrm>
                <a:prstGeom prst="line">
                  <a:avLst/>
                </a:prstGeom>
                <a:ln w="255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sp>
            <p:nvSpPr>
              <p:cNvPr id="214" name=""/>
              <p:cNvSpPr/>
              <p:nvPr/>
            </p:nvSpPr>
            <p:spPr>
              <a:xfrm flipV="1">
                <a:off x="2664000" y="4132800"/>
                <a:ext cx="6243480" cy="1146960"/>
              </a:xfrm>
              <a:prstGeom prst="line">
                <a:avLst/>
              </a:prstGeom>
              <a:ln w="28440">
                <a:solidFill>
                  <a:srgbClr val="000000"/>
                </a:solidFill>
                <a:miter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6626160" y="3071160"/>
                <a:ext cx="376200" cy="1061280"/>
              </a:xfrm>
              <a:custGeom>
                <a:avLst/>
                <a:gdLst>
                  <a:gd name="textAreaLeft" fmla="*/ 50400 w 376200"/>
                  <a:gd name="textAreaRight" fmla="*/ 325800 w 376200"/>
                  <a:gd name="textAreaTop" fmla="*/ 185760 h 1061280"/>
                  <a:gd name="textAreaBottom" fmla="*/ 769680 h 1061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2682637"/>
                    <a:lnTo>
                      <a:pt x="7200" y="21168"/>
                    </a:lnTo>
                    <a:lnTo>
                      <a:pt x="0" y="17280"/>
                    </a:lnTo>
                    <a:lnTo>
                      <a:pt x="7200" y="12528"/>
                    </a:lnTo>
                    <a:lnTo>
                      <a:pt x="7200" y="14688"/>
                    </a:lnTo>
                    <a:arcTo wR="21600" hR="7560" stAng="2682637" swAng="-2325203"/>
                    <a:lnTo>
                      <a:pt x="20700" y="9720"/>
                    </a:lnTo>
                    <a:arcTo wR="21600" hR="7560" stAng="-357435" swAng="-5042565"/>
                    <a:close/>
                  </a:path>
                  <a:path fill="darkenLess"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-357435"/>
                    <a:lnTo>
                      <a:pt x="20700" y="9720"/>
                    </a:lnTo>
                    <a:arcTo wR="21600" hR="7560" stAng="-357435" swAng="-5042565"/>
                    <a:close/>
                  </a:path>
                </a:pathLst>
              </a:custGeom>
              <a:solidFill>
                <a:srgbClr val="0f6fc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>
                <a:off x="4797360" y="2160720"/>
                <a:ext cx="1443240" cy="299520"/>
              </a:xfrm>
              <a:custGeom>
                <a:avLst/>
                <a:gdLst>
                  <a:gd name="textAreaLeft" fmla="*/ 252360 w 1443240"/>
                  <a:gd name="textAreaRight" fmla="*/ 1046520 w 1443240"/>
                  <a:gd name="textAreaTop" fmla="*/ 39960 h 299520"/>
                  <a:gd name="textAreaBottom" fmla="*/ 259560 h 2995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21600"/>
                    </a:moveTo>
                    <a:arcTo wR="7560" hR="21600" stAng="10800000" swAng="5400000"/>
                    <a:lnTo>
                      <a:pt x="11880" y="0"/>
                    </a:lnTo>
                    <a:arcTo wR="7560" hR="21600" stAng="-5400000" swAng="2682637"/>
                    <a:lnTo>
                      <a:pt x="21168" y="14400"/>
                    </a:lnTo>
                    <a:lnTo>
                      <a:pt x="17280" y="21600"/>
                    </a:lnTo>
                    <a:lnTo>
                      <a:pt x="12528" y="14400"/>
                    </a:lnTo>
                    <a:lnTo>
                      <a:pt x="14688" y="14400"/>
                    </a:lnTo>
                    <a:arcTo wR="7560" hR="21600" stAng="-2717363" swAng="-2325203"/>
                    <a:lnTo>
                      <a:pt x="9720" y="900"/>
                    </a:lnTo>
                    <a:arcTo wR="7560" hR="21600" stAng="-5757435" swAng="-5042565"/>
                    <a:close/>
                  </a:path>
                  <a:path fill="darkenLess" w="21600" h="21600">
                    <a:moveTo>
                      <a:pt x="0" y="21600"/>
                    </a:moveTo>
                    <a:arcTo wR="7560" hR="21600" stAng="10800000" swAng="5400000"/>
                    <a:lnTo>
                      <a:pt x="7560" y="0"/>
                    </a:lnTo>
                    <a:arcTo wR="7560" hR="21600" stAng="-5400000" swAng="357435"/>
                    <a:lnTo>
                      <a:pt x="9720" y="900"/>
                    </a:lnTo>
                    <a:arcTo wR="7560" hR="21600" stAng="-5757435" swAng="-5042565"/>
                    <a:close/>
                  </a:path>
                </a:pathLst>
              </a:custGeom>
              <a:solidFill>
                <a:srgbClr val="0f6fc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7" name=""/>
              <p:cNvSpPr/>
              <p:nvPr/>
            </p:nvSpPr>
            <p:spPr>
              <a:xfrm rot="10500000">
                <a:off x="3809520" y="3066120"/>
                <a:ext cx="223920" cy="1061280"/>
              </a:xfrm>
              <a:custGeom>
                <a:avLst/>
                <a:gdLst>
                  <a:gd name="textAreaLeft" fmla="*/ 29880 w 223920"/>
                  <a:gd name="textAreaRight" fmla="*/ 194040 w 223920"/>
                  <a:gd name="textAreaTop" fmla="*/ 185760 h 1061280"/>
                  <a:gd name="textAreaBottom" fmla="*/ 769680 h 106128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2682637"/>
                    <a:lnTo>
                      <a:pt x="7200" y="21168"/>
                    </a:lnTo>
                    <a:lnTo>
                      <a:pt x="0" y="17280"/>
                    </a:lnTo>
                    <a:lnTo>
                      <a:pt x="7200" y="12528"/>
                    </a:lnTo>
                    <a:lnTo>
                      <a:pt x="7200" y="14688"/>
                    </a:lnTo>
                    <a:arcTo wR="21600" hR="7560" stAng="2682637" swAng="-2325203"/>
                    <a:lnTo>
                      <a:pt x="20700" y="9720"/>
                    </a:lnTo>
                    <a:arcTo wR="21600" hR="7560" stAng="-357435" swAng="-5042565"/>
                    <a:close/>
                  </a:path>
                  <a:path fill="darkenLess"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-357435"/>
                    <a:lnTo>
                      <a:pt x="20700" y="9720"/>
                    </a:lnTo>
                    <a:arcTo wR="21600" hR="7560" stAng="-357435" swAng="-5042565"/>
                    <a:close/>
                  </a:path>
                </a:pathLst>
              </a:custGeom>
              <a:solidFill>
                <a:srgbClr val="0f6fc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8" name=""/>
              <p:cNvSpPr/>
              <p:nvPr/>
            </p:nvSpPr>
            <p:spPr>
              <a:xfrm>
                <a:off x="5755320" y="2769840"/>
                <a:ext cx="34524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447840"/>
                    <a:tab algn="l" pos="896760"/>
                    <a:tab algn="l" pos="1346040"/>
                    <a:tab algn="l" pos="1795320"/>
                    <a:tab algn="l" pos="2244600"/>
                    <a:tab algn="l" pos="2693880"/>
                    <a:tab algn="l" pos="3143160"/>
                    <a:tab algn="l" pos="3592440"/>
                    <a:tab algn="l" pos="4041720"/>
                    <a:tab algn="l" pos="4491000"/>
                    <a:tab algn="l" pos="4940280"/>
                    <a:tab algn="l" pos="5389560"/>
                    <a:tab algn="l" pos="5838840"/>
                    <a:tab algn="l" pos="6288120"/>
                    <a:tab algn="l" pos="6737400"/>
                    <a:tab algn="l" pos="7186680"/>
                    <a:tab algn="l" pos="7635960"/>
                    <a:tab algn="l" pos="8085240"/>
                    <a:tab algn="l" pos="8534520"/>
                    <a:tab algn="l" pos="8983800"/>
                    <a:tab algn="l" pos="8985240"/>
                    <a:tab algn="l" pos="9434520"/>
                    <a:tab algn="l" pos="9883800"/>
                    <a:tab algn="l" pos="10333080"/>
                    <a:tab algn="l" pos="10782360"/>
                  </a:tabLst>
                </a:pPr>
                <a:r>
                  <a:rPr b="0" lang="fr-FR" sz="1800" spc="-1" strike="noStrike">
                    <a:solidFill>
                      <a:srgbClr val="006600"/>
                    </a:solidFill>
                    <a:latin typeface="Arial"/>
                  </a:rPr>
                  <a:t>D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19" name=""/>
              <p:cNvSpPr/>
              <p:nvPr/>
            </p:nvSpPr>
            <p:spPr>
              <a:xfrm rot="21000000">
                <a:off x="4487760" y="4370400"/>
                <a:ext cx="681120" cy="528480"/>
              </a:xfrm>
              <a:prstGeom prst="rtTriangle">
                <a:avLst/>
              </a:prstGeom>
              <a:solidFill>
                <a:srgbClr val="000000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0" name=""/>
              <p:cNvSpPr/>
              <p:nvPr/>
            </p:nvSpPr>
            <p:spPr>
              <a:xfrm rot="5940000">
                <a:off x="5219640" y="4330440"/>
                <a:ext cx="375840" cy="1062000"/>
              </a:xfrm>
              <a:custGeom>
                <a:avLst/>
                <a:gdLst>
                  <a:gd name="textAreaLeft" fmla="*/ 50400 w 375840"/>
                  <a:gd name="textAreaRight" fmla="*/ 325440 w 375840"/>
                  <a:gd name="textAreaTop" fmla="*/ 185760 h 1062000"/>
                  <a:gd name="textAreaBottom" fmla="*/ 770040 h 106200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2682637"/>
                    <a:lnTo>
                      <a:pt x="7200" y="21168"/>
                    </a:lnTo>
                    <a:lnTo>
                      <a:pt x="0" y="17280"/>
                    </a:lnTo>
                    <a:lnTo>
                      <a:pt x="7200" y="12528"/>
                    </a:lnTo>
                    <a:lnTo>
                      <a:pt x="7200" y="14688"/>
                    </a:lnTo>
                    <a:arcTo wR="21600" hR="7560" stAng="2682637" swAng="-2325203"/>
                    <a:lnTo>
                      <a:pt x="20700" y="9720"/>
                    </a:lnTo>
                    <a:arcTo wR="21600" hR="7560" stAng="-357435" swAng="-5042565"/>
                    <a:close/>
                  </a:path>
                  <a:path fill="darkenLess" w="21600" h="21600">
                    <a:moveTo>
                      <a:pt x="0" y="0"/>
                    </a:moveTo>
                    <a:arcTo wR="21600" hR="7560" stAng="-5400000" swAng="5400000"/>
                    <a:lnTo>
                      <a:pt x="21600" y="11880"/>
                    </a:lnTo>
                    <a:arcTo wR="21600" hR="7560" stAng="0" swAng="-357435"/>
                    <a:lnTo>
                      <a:pt x="20700" y="9720"/>
                    </a:lnTo>
                    <a:arcTo wR="21600" hR="7560" stAng="-357435" swAng="-5042565"/>
                    <a:close/>
                  </a:path>
                </a:pathLst>
              </a:custGeom>
              <a:solidFill>
                <a:srgbClr val="0f6fc6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221" name=""/>
            <p:cNvSpPr/>
            <p:nvPr/>
          </p:nvSpPr>
          <p:spPr>
            <a:xfrm>
              <a:off x="4645080" y="4827600"/>
              <a:ext cx="71280" cy="681120"/>
            </a:xfrm>
            <a:prstGeom prst="upArrow">
              <a:avLst>
                <a:gd name="adj1" fmla="val 50000"/>
                <a:gd name="adj2" fmla="val 238889"/>
              </a:avLst>
            </a:prstGeom>
            <a:solidFill>
              <a:srgbClr val="0f6fc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22" name=""/>
          <p:cNvSpPr/>
          <p:nvPr/>
        </p:nvSpPr>
        <p:spPr>
          <a:xfrm>
            <a:off x="1887840" y="3887640"/>
            <a:ext cx="176004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1720" rIns="171720" tIns="86040" bIns="8604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3300"/>
                </a:solidFill>
                <a:latin typeface="Constantia"/>
              </a:rPr>
              <a:t> </a:t>
            </a:r>
            <a:r>
              <a:rPr b="0" lang="fr-FR" sz="2000" spc="-1" strike="noStrike">
                <a:solidFill>
                  <a:srgbClr val="ff3300"/>
                </a:solidFill>
                <a:latin typeface="Constantia"/>
              </a:rPr>
              <a:t>A = AC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ff3300"/>
                </a:solidFill>
                <a:latin typeface="Constantia"/>
              </a:rPr>
              <a:t>(Amélior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6678360" y="4495680"/>
            <a:ext cx="1691280" cy="78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71720" rIns="171720" tIns="86040" bIns="860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9933ff"/>
                </a:solidFill>
                <a:latin typeface="Constantia"/>
              </a:rPr>
              <a:t>C  = CHEC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000" spc="-1" strike="noStrike">
                <a:solidFill>
                  <a:srgbClr val="9933ff"/>
                </a:solidFill>
                <a:latin typeface="Constantia"/>
              </a:rPr>
              <a:t>(Vérifier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600360" y="5567400"/>
            <a:ext cx="129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Arial"/>
              </a:rPr>
              <a:t>Référentiel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/>
          <p:nvPr/>
        </p:nvSpPr>
        <p:spPr>
          <a:xfrm>
            <a:off x="285840" y="1285920"/>
            <a:ext cx="864396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6699ff"/>
                </a:solidFill>
                <a:latin typeface="Constantia"/>
                <a:ea typeface="Arial Unicode MS"/>
              </a:rPr>
              <a:t>P (plan: prévoir) </a:t>
            </a:r>
            <a:r>
              <a:rPr b="1" lang="fr-FR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: </a:t>
            </a:r>
            <a:r>
              <a:rPr b="1" lang="fr-FR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Je prévois les stocks de PSL afin d’assurer la disponibilité des produits lorsque ma demande de PSL arr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008000"/>
                </a:solidFill>
                <a:latin typeface="Constantia"/>
                <a:ea typeface="Arial Unicode MS"/>
              </a:rPr>
              <a:t>D (do: réaliser) </a:t>
            </a:r>
            <a:r>
              <a:rPr b="1" lang="fr-FR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: </a:t>
            </a:r>
            <a:r>
              <a:rPr b="1" lang="fr-FR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Je saisis la demande et la prépa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9966ff"/>
                </a:solidFill>
                <a:latin typeface="Constantia"/>
                <a:ea typeface="Arial Unicode MS"/>
              </a:rPr>
              <a:t>C (check: vérifier) : </a:t>
            </a:r>
            <a:r>
              <a:rPr b="1" lang="fr-FR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Je vérifie au moment de la délivrance que tout est OK (contrôle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275"/>
              </a:spcBef>
              <a:tabLst>
                <a:tab algn="l" pos="0"/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9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0000"/>
                </a:solidFill>
                <a:latin typeface="Constantia"/>
                <a:ea typeface="Arial Unicode MS"/>
              </a:rPr>
              <a:t>A (act : améliorer) : </a:t>
            </a:r>
            <a:r>
              <a:rPr b="1" lang="fr-FR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Si une anomalie apparaît je la signale afin d’identifier sa cause et apporter une corre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14200" y="976320"/>
            <a:ext cx="8643960" cy="5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600" spc="-1" strike="noStrike">
                <a:solidFill>
                  <a:srgbClr val="ff0000"/>
                </a:solidFill>
                <a:latin typeface="Calibri"/>
                <a:ea typeface="Arial Unicode MS"/>
              </a:rPr>
              <a:t>QUALITÉ ET SÉCURITÉ TRANSFUSIONNELL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457200" y="1935000"/>
            <a:ext cx="8229600" cy="438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72880" indent="-268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68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600" spc="-1" strike="noStrike" u="sng">
                <a:solidFill>
                  <a:srgbClr val="002060"/>
                </a:solidFill>
                <a:uFillTx/>
                <a:latin typeface="Constantia"/>
                <a:ea typeface="Arial Unicode MS"/>
              </a:rPr>
              <a:t>La sécurité des dépôts passe 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68200">
              <a:lnSpc>
                <a:spcPct val="100000"/>
              </a:lnSpc>
              <a:spcBef>
                <a:spcPts val="224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2880" indent="-268200" algn="just">
              <a:lnSpc>
                <a:spcPct val="125000"/>
              </a:lnSpc>
              <a:spcBef>
                <a:spcPts val="64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03495c"/>
                </a:solidFill>
                <a:latin typeface="Wingdings"/>
                <a:ea typeface="Wingdings"/>
              </a:rPr>
              <a:t></a:t>
            </a:r>
            <a:r>
              <a:rPr b="1" lang="fr-FR" sz="2600" spc="-1" strike="noStrike">
                <a:solidFill>
                  <a:srgbClr val="009dd9"/>
                </a:solidFill>
                <a:latin typeface="Constantia"/>
                <a:ea typeface="Arial Unicode MS"/>
              </a:rPr>
              <a:t> </a:t>
            </a:r>
            <a:r>
              <a:rPr b="1" lang="fr-FR" sz="2600" spc="-1" strike="noStrike">
                <a:solidFill>
                  <a:srgbClr val="03495c"/>
                </a:solidFill>
                <a:latin typeface="Constantia"/>
                <a:ea typeface="Arial Unicode MS"/>
              </a:rPr>
              <a:t>par la qualité des produits et des servic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68200" algn="just">
              <a:lnSpc>
                <a:spcPct val="125000"/>
              </a:lnSpc>
              <a:spcBef>
                <a:spcPts val="224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72880" indent="-268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3495c"/>
                </a:solidFill>
                <a:latin typeface="Wingdings"/>
                <a:ea typeface="Wingdings"/>
              </a:rPr>
              <a:t></a:t>
            </a:r>
            <a:r>
              <a:rPr b="0" lang="fr-FR" sz="2600" spc="-1" strike="noStrike">
                <a:solidFill>
                  <a:srgbClr val="009dd9"/>
                </a:solidFill>
                <a:latin typeface="Constantia"/>
                <a:ea typeface="Arial Unicode MS"/>
              </a:rPr>
              <a:t> </a:t>
            </a:r>
            <a:r>
              <a:rPr b="1" lang="fr-FR" sz="2600" spc="-1" strike="noStrike">
                <a:solidFill>
                  <a:srgbClr val="03495c"/>
                </a:solidFill>
                <a:latin typeface="Constantia"/>
                <a:ea typeface="Arial Unicode MS"/>
              </a:rPr>
              <a:t>par la qualité de l’organisation du dépôt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72880" indent="-268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272880"/>
                <a:tab algn="l" pos="720720"/>
                <a:tab algn="l" pos="1170000"/>
                <a:tab algn="l" pos="1619280"/>
                <a:tab algn="l" pos="2068560"/>
                <a:tab algn="l" pos="2517840"/>
                <a:tab algn="l" pos="2967120"/>
                <a:tab algn="l" pos="3416400"/>
                <a:tab algn="l" pos="3865680"/>
                <a:tab algn="l" pos="4314960"/>
                <a:tab algn="l" pos="4764240"/>
                <a:tab algn="l" pos="5213520"/>
                <a:tab algn="l" pos="5662440"/>
                <a:tab algn="l" pos="6111720"/>
                <a:tab algn="l" pos="6561000"/>
                <a:tab algn="l" pos="7010280"/>
                <a:tab algn="l" pos="7459560"/>
                <a:tab algn="l" pos="7908840"/>
                <a:tab algn="l" pos="8358120"/>
                <a:tab algn="l" pos="8807400"/>
                <a:tab algn="l" pos="925668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"/>
          <p:cNvSpPr/>
          <p:nvPr/>
        </p:nvSpPr>
        <p:spPr>
          <a:xfrm>
            <a:off x="428760" y="987480"/>
            <a:ext cx="8229600" cy="65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000" spc="-1" strike="noStrike">
                <a:solidFill>
                  <a:srgbClr val="ff0000"/>
                </a:solidFill>
                <a:latin typeface="Calibri"/>
                <a:ea typeface="Arial Unicode MS"/>
              </a:rPr>
              <a:t>LES IMPERATIFS DE LA QUALITE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457200" y="1935000"/>
            <a:ext cx="8229600" cy="256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68200" indent="-26820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Respect des Bonnes Pratiques Transfusionnelles</a:t>
            </a:r>
            <a:r>
              <a:rPr b="0" lang="fr-FR" sz="3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9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Conformité des produits aux caractéristiques          réglementaires</a:t>
            </a:r>
            <a:r>
              <a:rPr b="0" lang="fr-FR" sz="3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fr-FR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Adéquation aux besoins du prescripteur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42920" y="642960"/>
            <a:ext cx="8786880" cy="12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3800" spc="-1" strike="noStrike">
                <a:solidFill>
                  <a:srgbClr val="ff0000"/>
                </a:solidFill>
                <a:latin typeface="Calibri"/>
                <a:ea typeface="Arial Unicode MS"/>
              </a:rPr>
              <a:t>ASSURANCE</a:t>
            </a:r>
            <a:r>
              <a:rPr b="1" lang="fr-FR" sz="3800" spc="-1" strike="noStrike">
                <a:solidFill>
                  <a:srgbClr val="0000ff"/>
                </a:solidFill>
                <a:latin typeface="Calibri"/>
                <a:ea typeface="Arial Unicode MS"/>
              </a:rPr>
              <a:t> </a:t>
            </a:r>
            <a:r>
              <a:rPr b="1" lang="fr-FR" sz="3800" spc="-1" strike="noStrike">
                <a:solidFill>
                  <a:srgbClr val="ff0000"/>
                </a:solidFill>
                <a:latin typeface="Calibri"/>
                <a:ea typeface="Arial Unicode MS"/>
              </a:rPr>
              <a:t>QUALITE</a:t>
            </a:r>
            <a:r>
              <a:rPr b="1" lang="fr-FR" sz="3800" spc="-1" strike="noStrike">
                <a:solidFill>
                  <a:srgbClr val="0000ff"/>
                </a:solidFill>
                <a:latin typeface="Calibri"/>
                <a:ea typeface="Arial Unicode MS"/>
              </a:rPr>
              <a:t> </a:t>
            </a:r>
            <a:r>
              <a:rPr b="1" lang="fr-FR" sz="3800" spc="-1" strike="noStrike">
                <a:solidFill>
                  <a:srgbClr val="ff0000"/>
                </a:solidFill>
                <a:latin typeface="Calibri"/>
                <a:ea typeface="Arial Unicode MS"/>
              </a:rPr>
              <a:t>:LES</a:t>
            </a:r>
            <a:r>
              <a:rPr b="1" lang="fr-FR" sz="3800" spc="-1" strike="noStrike">
                <a:solidFill>
                  <a:srgbClr val="0000ff"/>
                </a:solidFill>
                <a:latin typeface="Calibri"/>
                <a:ea typeface="Arial Unicode MS"/>
              </a:rPr>
              <a:t> </a:t>
            </a:r>
            <a:r>
              <a:rPr b="1" lang="fr-FR" sz="3800" spc="-1" strike="noStrike">
                <a:solidFill>
                  <a:srgbClr val="ff0000"/>
                </a:solidFill>
                <a:latin typeface="Calibri"/>
                <a:ea typeface="Arial Unicode MS"/>
              </a:rPr>
              <a:t>FONDAMENTAUX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00040" y="2214720"/>
            <a:ext cx="8229600" cy="3713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 marL="268200" indent="-268200">
              <a:lnSpc>
                <a:spcPct val="100000"/>
              </a:lnSpc>
              <a:spcBef>
                <a:spcPts val="601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0f6fc6"/>
                </a:solidFill>
                <a:latin typeface="Constantia"/>
                <a:ea typeface="Arial Unicode MS"/>
              </a:rPr>
              <a:t>prévoir – préétablir</a:t>
            </a:r>
            <a:r>
              <a:rPr b="1" lang="fr-FR" sz="2600" spc="-1" strike="noStrike">
                <a:solidFill>
                  <a:srgbClr val="ff3300"/>
                </a:solidFill>
                <a:latin typeface="Constantia"/>
                <a:ea typeface="Arial Unicode MS"/>
              </a:rPr>
              <a:t> </a:t>
            </a:r>
            <a:r>
              <a:rPr b="0" lang="fr-FR" sz="2600" spc="-1" strike="noStrike">
                <a:solidFill>
                  <a:srgbClr val="ff3300"/>
                </a:solidFill>
                <a:latin typeface="Constantia"/>
                <a:ea typeface="Arial Unicode MS"/>
              </a:rPr>
              <a:t>: </a:t>
            </a:r>
            <a:r>
              <a:rPr b="1" lang="fr-FR" sz="24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Maîtrise des ressourc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008000"/>
                </a:solidFill>
                <a:latin typeface="Constantia"/>
                <a:ea typeface="Arial Unicode MS"/>
              </a:rPr>
              <a:t>apporter la preuve de la réalisation: </a:t>
            </a:r>
            <a:r>
              <a:rPr b="1" lang="fr-FR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les enregistrement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49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ff3300"/>
                </a:solidFill>
                <a:latin typeface="Constantia"/>
                <a:ea typeface="Arial Unicode MS"/>
              </a:rPr>
              <a:t>Améliorer:</a:t>
            </a:r>
            <a:r>
              <a:rPr b="1" lang="fr-FR" sz="2600" spc="-1" strike="noStrike">
                <a:solidFill>
                  <a:srgbClr val="0066ff"/>
                </a:solidFill>
                <a:latin typeface="Constantia"/>
                <a:ea typeface="Arial Unicode MS"/>
              </a:rPr>
              <a:t> </a:t>
            </a:r>
            <a:r>
              <a:rPr b="1" lang="fr-FR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la gestion des actions correctives et préventive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1624"/>
              </a:spcBef>
              <a:buClr>
                <a:srgbClr val="0bd0d9"/>
              </a:buClr>
              <a:buSzPct val="95000"/>
              <a:buFont typeface="Wingdings 2" charset="2"/>
              <a:buChar char=""/>
              <a:tabLst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2600" spc="-1" strike="noStrike">
                <a:solidFill>
                  <a:srgbClr val="9966ff"/>
                </a:solidFill>
                <a:latin typeface="Constantia"/>
                <a:ea typeface="Arial Unicode MS"/>
              </a:rPr>
              <a:t>mesurer- vérifier : </a:t>
            </a:r>
            <a:r>
              <a:rPr b="1" lang="fr-FR" sz="2600" spc="-1" strike="noStrike">
                <a:solidFill>
                  <a:srgbClr val="000000"/>
                </a:solidFill>
                <a:latin typeface="Constantia"/>
                <a:ea typeface="Arial Unicode MS"/>
              </a:rPr>
              <a:t>Les contrôles, les audits, les inspections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268200" indent="-268200">
              <a:lnSpc>
                <a:spcPct val="100000"/>
              </a:lnSpc>
              <a:spcBef>
                <a:spcPts val="649"/>
              </a:spcBef>
              <a:tabLst>
                <a:tab algn="l" pos="0"/>
                <a:tab algn="l" pos="268200"/>
                <a:tab algn="l" pos="716040"/>
                <a:tab algn="l" pos="1165320"/>
                <a:tab algn="l" pos="1614600"/>
                <a:tab algn="l" pos="2063880"/>
                <a:tab algn="l" pos="2513160"/>
                <a:tab algn="l" pos="2962440"/>
                <a:tab algn="l" pos="3411360"/>
                <a:tab algn="l" pos="3860640"/>
                <a:tab algn="l" pos="4309920"/>
                <a:tab algn="l" pos="4759200"/>
                <a:tab algn="l" pos="5208480"/>
                <a:tab algn="l" pos="5657760"/>
                <a:tab algn="l" pos="6107040"/>
                <a:tab algn="l" pos="6556320"/>
                <a:tab algn="l" pos="7005600"/>
                <a:tab algn="l" pos="7454880"/>
                <a:tab algn="l" pos="7904160"/>
                <a:tab algn="l" pos="8353440"/>
                <a:tab algn="l" pos="8802720"/>
                <a:tab algn="l" pos="925200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"/>
          <p:cNvSpPr/>
          <p:nvPr/>
        </p:nvSpPr>
        <p:spPr>
          <a:xfrm>
            <a:off x="928800" y="2714760"/>
            <a:ext cx="777240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bIns="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4500" spc="-1" strike="noStrike">
                <a:solidFill>
                  <a:srgbClr val="002060"/>
                </a:solidFill>
                <a:latin typeface="Calibri"/>
                <a:ea typeface="Arial Unicode MS"/>
              </a:rPr>
              <a:t>LA MAÎTRISE DES RESSOURCES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07:57:51Z</dcterms:created>
  <dc:creator>Tazerout</dc:creator>
  <dc:description/>
  <dc:language>en-US</dc:language>
  <cp:lastModifiedBy>GD</cp:lastModifiedBy>
  <dcterms:modified xsi:type="dcterms:W3CDTF">2012-10-01T18:32:38Z</dcterms:modified>
  <cp:revision>12</cp:revision>
  <dc:subject/>
  <dc:title>Démarche Qualité dans un Dépôt de PSL</dc:title>
</cp:coreProperties>
</file>