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AC07-25DD-4877-AB55-83F58D3646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77136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F7625-6E5B-4336-9DD9-15D7C93A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400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61AD7-4AB1-445D-8862-12FB14FD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792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088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792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088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CEE4-F5DA-4208-BF91-6CD73EBFB2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DF719-CDF8-404B-953B-39E4DC48A0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F27A3-B75F-4329-A906-1009ACAF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7306B-46FA-429A-93F8-A8DCAF90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D97AD-66F9-40E8-A058-7557BB02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6DC1C-2D83-4B56-8164-3DF5611C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19376-7AE9-47CE-9D54-A577B5C1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D4751-5BBF-43A2-B03A-BC1FFF1D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90C0-9499-4557-834B-E11D6A9D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400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400C2-B832-4CD9-9A79-A3885EA6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A6194-230F-426E-9173-3EF07E23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77136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AFC76-5A08-477C-AE77-15DA1F27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400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728B5-7CB5-4A4F-A2CF-7AB80613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792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088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792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088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E00B4-2E93-4F00-9BE6-5D79E466C7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EBE3-C6C1-4D1B-BFA9-DC792A1ACE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8851-AFDF-4384-91D9-1AA0CEF3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B25B-534B-4E48-B384-F15F0832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C1E5-CF1B-4D2C-8AE0-C4821997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977D-DA96-4758-B892-36543E4D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61C7F-CE41-4FB9-9F7E-B4257D93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8BFE-2F65-4080-9EE3-FFE1D64C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A24F-BE51-4D0F-8DAE-B3E0BD72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400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D136-79AA-4C24-B76C-67BBBA88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A9F1-A257-4079-AFC7-B586727F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77136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77C4-530E-4310-8BB0-2F439C75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400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98C4-7D4C-46A0-A684-2F22B653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792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088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792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088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CE73-B5D9-4A53-A6D0-323280023E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99FB5-7DB9-4919-9906-5E99ECE070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E797F-AB94-4A8D-91F7-48724802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A5744-CE76-4423-9280-2CFF0849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0DF59-E733-4B5D-A1A6-A8E8937E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23729-1FC7-495E-84C3-1ABDAE1A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FD9B0-0121-46A4-8EB1-F7925AD2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13954-F0EC-44F7-9417-8A425AD9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BC630-B7AE-40CB-85F2-D165D6D3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400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B7659-E84F-4E49-B236-C7C58FE2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F831A-37FF-484F-BEB6-FD212941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77136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3F16B-AB15-474D-86D9-609C59E1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400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C0F2F-8E2D-4FEA-BF8D-6CC7E09A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792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088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792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088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FD3F0-6233-485E-B265-9673F36871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DB70F4-E801-4732-95D1-5E218EC2B0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7E6B9-502D-4F87-B26E-37BEC9A3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30EA0-9390-41C7-96EE-4AADBDAE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48C945-A6DC-463C-9B77-9262233F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C0ED5-6D7D-40E4-805C-44D12B80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2044A-EEBB-4807-B8BF-8A133C31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E35707-9790-4885-9DBC-2732F9F4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EDC41B-553A-4014-BFA2-DCD15746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400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51B9F6-C728-4AA8-97F6-D5F7294F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D15D12-9152-4EA5-BF97-EFCEC91E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77136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D1C66-5DB2-4045-92A8-EE5A7E8A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400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6B7980-5816-4339-8012-E00600C4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B5CA7-841D-4444-B96A-1855BCF5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792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088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792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088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9143BF-6865-43A7-A454-6225B06730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7B0E2-DA4A-4492-8363-0FCEAE6CCE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A65A7-3A24-4088-B85C-DD5FE2AE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77A2F-6312-471A-9AFD-861037AA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390FF-1340-4232-A8FF-51101DEA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49B7D-B312-46FE-B4D8-F24A30E6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24669-0359-4B85-90B8-D45F39BC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079E0-CB9E-4DA3-8538-8FE38132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400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49377-7632-4580-ABC1-198AD4BA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7FD63-FBDB-4BB4-9658-2E5F171F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C66E-FB35-4FAC-A871-D8BF71BD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77136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2432A-D20E-4547-BEDB-4693E324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400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1851E-CECE-4213-878B-4BA17BC1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792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088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792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088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5D2B8-D108-457A-8432-92D424AC23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36A4C-2F8A-426D-96B9-5215F1A300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CF4177-A259-4137-8BEF-C3F625C1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579B7-9BC4-4A7E-A550-5704935E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69B8C-5D80-41CD-ABB6-37880E87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C206E-D37F-4961-8DB8-7CD22AA7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86FD2-0180-41A4-B06B-DBB9512D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D21C1-6BDF-4D4A-9E4E-E8E37732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400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30B7-8A6D-43B3-874C-59C31177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400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1D8E1-C796-4B4A-BC36-049D7C53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A0C30F-A66F-4CE6-B72A-ACF8B977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77136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B4651-96FB-4FC0-AA24-BBE7F131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4000" y="377136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65EF9-1416-456C-A6E5-DA5E5878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792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0880" y="144792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792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0880" y="3771360"/>
            <a:ext cx="24120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573F7-CA67-4C9E-8F5E-C0EB81BE4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4000" y="1447920"/>
            <a:ext cx="36558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771360"/>
            <a:ext cx="749160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8905-0CEF-4A2B-9613-EF7C8025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efe">
              <a:alpha val="33000"/>
            </a:srgbClr>
          </a:solidFill>
          <a:ln w="324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cfcfc"/>
            </a:solidFill>
            <a:miter/>
          </a:ln>
          <a:effectLst>
            <a:outerShdw dist="73094" dir="595574" blurRad="0" rotWithShape="0">
              <a:srgbClr val="b6b6b6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57120" y="121140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360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12AA9-AA7E-4B3C-8851-3CDC48E1E145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487" dir="7075415" blurRad="0" rotWithShape="0">
              <a:srgbClr val="78787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efe">
              <a:alpha val="33000"/>
            </a:srgbClr>
          </a:solidFill>
          <a:ln w="324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cfcfc"/>
            </a:solidFill>
            <a:miter/>
          </a:ln>
          <a:effectLst>
            <a:outerShdw dist="73094" dir="595574" blurRad="0" rotWithShape="0">
              <a:srgbClr val="b6b6b6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57120" y="121140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487" dir="7075415" blurRad="0" rotWithShape="0">
              <a:srgbClr val="78787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27160" cy="220680"/>
            <a:chOff x="914400" y="1407960"/>
            <a:chExt cx="227160" cy="22068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43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c2c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360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1182E4-BD27-4855-9ED5-B0C2056A2B69}" type="slidenum">
              <a: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487" dir="7075415" blurRad="0" rotWithShape="0">
              <a:srgbClr val="78787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27160" cy="220680"/>
            <a:chOff x="2163600" y="2809800"/>
            <a:chExt cx="227160" cy="22068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2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c2c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360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AF5A0B-7FAE-4DF5-9C3A-D5A67B0A1A43}" type="slidenum">
              <a: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360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611EE3-21A3-4AFA-97FE-300DDCA852FB}" type="slidenum">
              <a: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1487" dir="7075415" blurRad="0" rotWithShape="0">
              <a:srgbClr val="78787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360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32FF73-7C79-4A05-A406-9A675B317956}" type="slidenum">
              <a: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360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19B57B-C460-4C4F-BA4A-9FD6DCE606AA}" type="slidenum">
              <a: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798800" cy="4797720"/>
            <a:chOff x="646200" y="969840"/>
            <a:chExt cx="4798800" cy="479772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880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66960" cy="45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deded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4464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8f8f8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16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360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F63697-1D08-43D9-8743-3C0932CF52D8}" type="slidenum">
              <a:rPr b="0" lang="fr-FR" sz="1200" spc="-1" strike="noStrike">
                <a:solidFill>
                  <a:srgbClr val="b6b6b6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emovigilance-cncrh.fr/Textes/csp/L1221-1_14.html#10" TargetMode="External"/><Relationship Id="rId3" Type="http://schemas.openxmlformats.org/officeDocument/2006/relationships/hyperlink" Target="http://www.hemovigilance-cncrh.fr/Textes/csp/1221-17.html" TargetMode="External"/><Relationship Id="rId4" Type="http://schemas.openxmlformats.org/officeDocument/2006/relationships/hyperlink" Target="http://www.hemovigilance-cncrh.fr/Textes/2007/decret-07-09-07-depots.html%22%20%5Ct%20%22_blank" TargetMode="External"/><Relationship Id="rId5" Type="http://schemas.openxmlformats.org/officeDocument/2006/relationships/hyperlink" Target="http://www.hemovigilance-cncrh.fr/Textes/2007/arrete_30_11_07_condition_autorisation_depot.pdf%22%20%5Ct%20%22_blank" TargetMode="External"/><Relationship Id="rId6" Type="http://schemas.openxmlformats.org/officeDocument/2006/relationships/hyperlink" Target="http://www.hemovigilance-cncrh.fr/Textes/2007/arrete_30_11_07_modele_convention.pdf%22%20%5Ct%20%22_blank" TargetMode="External"/><Relationship Id="rId7" Type="http://schemas.openxmlformats.org/officeDocument/2006/relationships/hyperlink" Target="http://www.hemovigilance-cncrh.fr/Textes/csp/L1223-3.html" TargetMode="External"/><Relationship Id="rId8" Type="http://schemas.openxmlformats.org/officeDocument/2006/relationships/hyperlink" Target="http://www.hemovigilance-cncrh.fr/Textes/2006/bonnes-pratiques-06-11-2006.htm" TargetMode="External"/><Relationship Id="rId9" Type="http://schemas.openxmlformats.org/officeDocument/2006/relationships/hyperlink" Target="http://www.hemovigilance-cncrh.fr/Textes/csp/L1223-3.html" TargetMode="External"/><Relationship Id="rId10" Type="http://schemas.openxmlformats.org/officeDocument/2006/relationships/hyperlink" Target="http://www.hemovigilance-cncrh.fr/Textes/2007/arrete_30_11_07_liste_materiel.pdf" TargetMode="External"/><Relationship Id="rId11" Type="http://schemas.openxmlformats.org/officeDocument/2006/relationships/hyperlink" Target="http://www.hemovigilance-cncrh.fr/Textes/csp/1222-23.html" TargetMode="External"/><Relationship Id="rId12" Type="http://schemas.openxmlformats.org/officeDocument/2006/relationships/hyperlink" Target="http://www.hemovigilance-cncrh.fr/Textes/2007/arrete_3_12_07_qualification_personnel_depot.pdf%22%20%5Ct%20%22_blank" TargetMode="External"/><Relationship Id="rId13" Type="http://schemas.openxmlformats.org/officeDocument/2006/relationships/hyperlink" Target="http://www.hemovigilance-cncrh.fr/Textes/2008/cahier_des_charges_formation_depot.pdf%22%20%5Ct%20%22_blank" TargetMode="External"/><Relationship Id="rId14" Type="http://schemas.openxmlformats.org/officeDocument/2006/relationships/hyperlink" Target="http://www.hemovigilance-cncrh.fr/Textes/2009/arrete-2009-07-15-qualif-pers-depot.pdf" TargetMode="Externa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762200" y="1621440"/>
            <a:ext cx="68115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 </a:t>
            </a:r>
            <a:r>
              <a:rPr b="1" lang="fr-FR" sz="3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Objectifs et Rég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des DÉPÔT DE PS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Dr Mahdi TAZEROUT  et Dr Gérald DAU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Coordonnateurs Régionaux d’Hémovigil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1447920"/>
            <a:ext cx="749952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ETAPES DE LA PROCEDURE D’AUTORISATION D’UN DEPOT DE SA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079640" y="576360"/>
          <a:ext cx="7705440" cy="6835320"/>
        </p:xfrm>
        <a:graphic>
          <a:graphicData uri="http://schemas.openxmlformats.org/drawingml/2006/table">
            <a:tbl>
              <a:tblPr/>
              <a:tblGrid>
                <a:gridCol w="998280"/>
                <a:gridCol w="4545000"/>
                <a:gridCol w="2162160"/>
              </a:tblGrid>
              <a:tr h="421200">
                <a:tc>
                  <a:txBody>
                    <a:bodyPr lIns="90000" rIns="90000" tIns="17208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bd814f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0" rIns="90000" tIns="17208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O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bd814f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0000" rIns="90000" tIns="17208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bd814f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825120"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 Directeur de l’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bd814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mande d’autorisation d’un dépôt de sang à l’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ossier Technique  (le double au CR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bd814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tre  à l’ARS avec  Accusé de ré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bd814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’A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mande d’avis : EFS et C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604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’EF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IS sur la demande d’autorisation du dépôt à l’A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604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 C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IS sur la demande d’autorisation du dépôt à l’A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604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23160"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’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ssionne  un médecin inspecteur de l'ARS pour une inspection, si elle n'a pas été faite dans les 5 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ille d'inspeciton du dépô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 C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ruit le dossi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604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457640"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’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tifie sa dé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7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pie : EFS et C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2080" bIns="468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écision  si autorisation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7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tre au directeur de l’ES si pas d’autoris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17604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604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7604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434960" y="1447920"/>
            <a:ext cx="7499520" cy="48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Urgence vitale immédiate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: situation où l'obtention des produits sanguins doit être sans délai. Les concentrés de globules rouges (CGR) peuvent éventuellement être délivrés avant la connaissance des résultats des examens réglementaires 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Urgence vitale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: situation où le délai d'obtention des produits sanguins doit être inférieur à 30 minutes. Les CGR sont attribués dans la mesure du possible avec deux déterminations de groupage sanguin, éventuellement avant la connaissance des résultats de la RAI si ceux-ci ne sont pas encore disponibles 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Urgence relative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: situation où le délai d'obtention de PSL est le plus souvent de deux heures, ce qui permet la réalisation de l'ensemble des examens immuno hématologiques ; les PSL attribués seront ABO compatibles, au besoin compatibilisés (selon le résultat de la RAI)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9520" cy="14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Gill Sans MT"/>
              </a:rPr>
              <a:t>Trois niveaux d’urgences transfusionnel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71720" y="285840"/>
            <a:ext cx="75438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600" y="144000"/>
            <a:ext cx="74962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ff0000"/>
                </a:solidFill>
                <a:latin typeface="Gill Sans MT"/>
                <a:ea typeface="Lucida Sans Unicode"/>
              </a:rPr>
              <a:t>Les differentes categories de depo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Définitions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istribution : c’est la fourniture de PSL par un ETS, au dépôt de sang d’un ES, ou à un autre ETS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élivranc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: c’est la mise à disposition de PSL sur prescription médicale pour un patient (anciennement attribution nominativ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atégories de dépôts :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I- Dépôt de </a:t>
            </a:r>
            <a:r>
              <a:rPr b="1" i="1" lang="fr-FR" sz="22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délivrance</a:t>
            </a:r>
            <a:r>
              <a:rPr b="1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: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serve des PSL et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délivre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pour un patient de l’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II- Dépôt</a:t>
            </a:r>
            <a:r>
              <a:rPr b="1" i="1" lang="fr-FR" sz="22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 relais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: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serve des PSL délivrés par l’ETS 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transfère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à un patient de l’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III- Dépôt d’urgence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serve seulement des CGR de groupe O et des plasmas de groupe AB  et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délivre en urgence vitale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pour un patient de l’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43000" y="142920"/>
            <a:ext cx="73724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Gill Sans MT"/>
                <a:ea typeface="Lucida Sans Unicode"/>
              </a:rPr>
              <a:t>Les différents pers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1214280"/>
            <a:ext cx="761508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) Respon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édecin ou le pharmacien responsab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, (et remplaça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+ qualification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mplémentair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) Personnels assurant la déliv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euls autoris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s sages-femme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s infirmier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s personnes remplissant les conditions pour être employées en qualité de technicien dans un laboratoire d’analyses de biologie médic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qualifications complémentaires obliga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marque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: il n'y a pas les médecin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parmi ces pers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204920" y="1260360"/>
            <a:ext cx="76150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tock important de PSL non délivrés et utilisables jusqu’à pérem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Indications : (critères à définir au cas par c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soin identifié dans le SROS. figure dans le projet médical de l’établissement et  son CP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x 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S distant de plus d’1 heure de l’EFS et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yant de nombreuses activités d’urgences transfusionnel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A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s  6 heures s’appliquent aux PSL sortant du dépô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a fréquence des transports ES-EFS est réd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a réponse à tous les besoins des unités de soins, urgents ou n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Inconvén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ise en place d’une organisation rigoureuse, lourde, domaine mal connu de l'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a délivrance ne bénéficie pas de la sécurité offerte par la mémoire informatique de l’EFS et du stock de l'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a délivrance des PSL est plus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lourde et plus coûteuse et se fait sous la responsabilité de l’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59000" y="50328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Dépôt de delivrance (D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000080" y="214200"/>
            <a:ext cx="785808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b050"/>
                </a:solidFill>
                <a:uFillTx/>
                <a:latin typeface="Calibri"/>
                <a:ea typeface="Lucida Sans Unicode"/>
              </a:rPr>
              <a:t>Le personnel :</a:t>
            </a:r>
            <a:r>
              <a:rPr b="1" lang="fr-FR" sz="1800" spc="-1" strike="noStrike">
                <a:solidFill>
                  <a:srgbClr val="00b05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Le responsabl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: médecin ou pharmacien (section G ou H pour pharmaci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apacité en technologie transfusionnel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iplôme universitaire en transfusion sangui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iplôme interuniversitaire de technologie thérapeutique transfusionnel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ESC d’hémobiologie transfus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Le remplaçant du responsabl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: médecin ou pharmacien (section G ou 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ormation de 35 heures à la gestion d’un dépôt de sang auprès d’un organisme agréé de D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Les personnel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: sages femmes, IDE, technicien de laboratoire d’analyses de biologie médicale, personnes titulaires d’une licence de biolog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ormation de 35 heures (modules théoriques et pratiqu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également  formation continu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79640" y="576360"/>
            <a:ext cx="7862760" cy="48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 u="sng">
                <a:solidFill>
                  <a:srgbClr val="00b050"/>
                </a:solidFill>
                <a:uFillTx/>
                <a:latin typeface="Calibri"/>
                <a:ea typeface="Lucida Sans Unicode"/>
              </a:rPr>
              <a:t>Le fonctionnemen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ssurer l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inuité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de services 24h/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élivrer au moins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500 PSL/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éception d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nalyses IH par transfert informatiqu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ystème d'information informatisé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a gestion de l'ensemble de l'activité et la traçabilité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des PS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ont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élection des P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 / immuno-hématologie du patient et les protocoles transfusionnels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tock cible et un stock minimum pour chaque type de PSL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214280" y="857160"/>
            <a:ext cx="749808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 transfère que des PSL déjà délivrés par l’EF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5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Besoin identifié dans le SROS (+projet médical de l’établissement et CPOM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S distant de l’EF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t ayant des difficultés réelles de trans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eut être couplé à DUV, peut prévoir des plages horaires de fonction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A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ègle des 6 heures, à partir de la sortie du dépô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élivrance des PSL reste sous la responsabilité de l’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Inconvéni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ise à disposition aux unités de soins  est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sponsabilité de l’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écessité d’un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ganisation rigoureuse (car risques élev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nformatique complè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û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orte proportion des PSL non utilisés :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gaspillage importa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écessité de transports supplémentaires en dehors des cas programm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57200" y="285840"/>
            <a:ext cx="28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Calibri"/>
              </a:rPr>
              <a:t>Dépôt relais (DR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071720" y="571680"/>
            <a:ext cx="7497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b050"/>
                </a:solidFill>
                <a:uFillTx/>
                <a:latin typeface="Gill Sans MT"/>
                <a:ea typeface="Lucida Sans Unicode"/>
              </a:rPr>
              <a:t>Le </a:t>
            </a:r>
            <a:r>
              <a:rPr b="1" lang="fr-FR" sz="2200" spc="-1" strike="noStrike" u="sng">
                <a:solidFill>
                  <a:srgbClr val="00b050"/>
                </a:solidFill>
                <a:uFillTx/>
                <a:latin typeface="Gill Sans MT"/>
                <a:ea typeface="Lucida Sans Unicode"/>
              </a:rPr>
              <a:t>personnel</a:t>
            </a:r>
            <a:r>
              <a:rPr b="1" lang="fr-FR" sz="1800" spc="-1" strike="noStrike" u="sng">
                <a:solidFill>
                  <a:srgbClr val="00b050"/>
                </a:solidFill>
                <a:uFillTx/>
                <a:latin typeface="Gill Sans MT"/>
                <a:ea typeface="Lucida Sans Unicode"/>
              </a:rPr>
              <a:t> :</a:t>
            </a:r>
            <a:r>
              <a:rPr b="1" lang="fr-FR" sz="1800" spc="-1" strike="noStrike">
                <a:solidFill>
                  <a:srgbClr val="00b050"/>
                </a:solidFill>
                <a:latin typeface="Gill Sans MT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Le</a:t>
            </a: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 responsable du dépôt et son remplaçant,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formation de 35 heures (modules théoriques et pratiques) auprès d’un organisme agréé de DP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Le</a:t>
            </a: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 personnel du dépô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IDE, SF ou techniciens de LBM Le responsable s’assure que les personnels du dépôt reçoivent une formation au fonctionnement du dépôt (assurance qualité, conservation et  délivrance des PS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 u="sng">
                <a:solidFill>
                  <a:srgbClr val="00b050"/>
                </a:solidFill>
                <a:uFillTx/>
                <a:latin typeface="Gill Sans MT"/>
                <a:ea typeface="Lucida Sans Unicode"/>
              </a:rPr>
              <a:t>Le fonctionnement </a:t>
            </a:r>
            <a:r>
              <a:rPr b="1" lang="fr-FR" sz="1600" spc="-1" strike="noStrike" u="sng">
                <a:solidFill>
                  <a:srgbClr val="00b050"/>
                </a:solidFill>
                <a:uFillTx/>
                <a:latin typeface="Gill Sans MT"/>
                <a:ea typeface="Lucida Sans Unicode"/>
              </a:rPr>
              <a:t>:</a:t>
            </a:r>
            <a:r>
              <a:rPr b="1" lang="fr-FR" sz="1600" spc="-1" strike="noStrike">
                <a:solidFill>
                  <a:srgbClr val="00b050"/>
                </a:solidFill>
                <a:latin typeface="Gill Sans MT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Conditions applicables aux autres dépô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+ </a:t>
            </a: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système informatisé permettant d’assurer la gestion et la traçabilité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 des PSL. (voir cahier des char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600" y="144000"/>
            <a:ext cx="74962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Organisation délivra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39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Spécificité française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~ 1500 ES transfuseu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Souvent plusieurs par vil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UK : 150 ES transfuseu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NL : 100 ES transfuseu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71720" y="928800"/>
            <a:ext cx="749772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serve PSL pour délivrance en urgence vitale immédi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GR O (Rh D+ et/ou Rh D-), éventuellement PFC 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 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Indication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: besoin identifié dans le SROS. Doit  figurer dans le projet médical de l’établissement et dans son CP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x : ES distant à plus de x mn de l’EFS (à défin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ctivités d’urgences transfusionnelles sans dél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A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égle le problème de l’urgence vitale transfusionnel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assure prescripteurs pour limiter demandes au strict nécessai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Inconvén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mmobilisation et consommation de CGR O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isque de « fausses urgence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rès nombreux incidents gr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'où surveillance régionale rapprochée de ces dépô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0" y="4287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Dépôt d’urgence vitale (DU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43000" y="500040"/>
            <a:ext cx="7497720" cy="59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 u="sng">
                <a:solidFill>
                  <a:srgbClr val="00b050"/>
                </a:solidFill>
                <a:uFillTx/>
                <a:latin typeface="Calibri"/>
                <a:ea typeface="Lucida Sans Unicode"/>
              </a:rPr>
              <a:t>Le personnel :</a:t>
            </a:r>
            <a:r>
              <a:rPr b="1" lang="fr-FR" sz="2000" spc="-1" strike="noStrike">
                <a:solidFill>
                  <a:srgbClr val="00b050"/>
                </a:solidFill>
                <a:latin typeface="Calibri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Le responsable du dépôt et son remplaçan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ormation de 35 heures (modules théoriques et pratiques) par organisme agréé de D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Le personnel du dépô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ormation spécifique au fonctionnement du dépôt (assurance qualité, conservation et délivrance des PS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 u="sng">
                <a:solidFill>
                  <a:srgbClr val="00b050"/>
                </a:solidFill>
                <a:uFillTx/>
                <a:latin typeface="Calibri"/>
                <a:ea typeface="Lucida Sans Unicode"/>
              </a:rPr>
              <a:t>Le fonctionnement 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 u="sng">
                <a:solidFill>
                  <a:srgbClr val="314004"/>
                </a:solidFill>
                <a:uFillTx/>
                <a:latin typeface="Calibri"/>
                <a:ea typeface="Lucida Sans Unicode"/>
              </a:rPr>
              <a:t>Assurer la continuité de services 24h/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000080" y="714240"/>
            <a:ext cx="74977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  <a:ea typeface="Lucida Sans Unicode"/>
              </a:rPr>
              <a:t>DEPOT MIX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Dépôt d’Urgence Vitale +Dépôt relais (D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LES RESPONSABILITES et les C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143000" y="1714680"/>
            <a:ext cx="786276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Etablissement de Santé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 dépôt est sous l’unique responsabilité de l’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’ES assure la prise en charge financ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s personnes responsables de la délivrance sont des personnels de l’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'ES assume tous les surcoûts, le tarif EFS des PSL est inchang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Etablissement de Transfusion Sangu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articipation technique au fonctionnement et plus particulièrement au contrô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 conseil transfusionnel est assuré par le Médecin de l’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359000" y="1800360"/>
            <a:ext cx="7497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ÉLEMENTS INDISPENSABLES AU BON FONCTIONNEMENT D’UN DÉPÔT DE P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415880" y="344520"/>
            <a:ext cx="749808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CONVENTION EFS/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onctionnement du dépôt de 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ésignation du responsable du dépôt de sang et de son remplaç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ésignation de la personne chargée du fonctionnement du dépôt de sang et de son remplaç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atériel de conservation et de décongélation des P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s d’acheminement des produits sanguins la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ditions de fonctionnement du dépôt de sang,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,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LES LOC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« Raisonnablement » dédié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, réservés au seul usage du dépôt ou intégré dans un espace « réservé d’accès aux personnels autorisés » ex : bloc, salle de réveil, réa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ont prohibées, les localisations conjointes avec un « lieu de convivialité » ex : salle de repos des infirmières ou posant des problèmes d’hygiène…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rôle thermique du local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(« les appareils de froid font du chaud »…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’Hygièn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des locaux (« quand, par qui, avec quoi 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071720" y="285840"/>
            <a:ext cx="74977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LES MATER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Réfrigérateu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 : +2/+6°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Congélateu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 :  inférieure à –25°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Décongélateur de plasma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 :maintenir 37°C et être en mesure de décongeler un PFC en moins de trent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 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ondes de contrôle  indépendantes des appare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ffichage de température instanta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nregistreur continu de  température (avec archivage au moins 6 mo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larm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aute et basse audible 24h/24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dans un local avec personnel 24h/24 ou avec liaison centralisée  24h/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Alimentation électrique de l'alarme indépendante de celle de l’appareil surveill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Qualification :  qualification initiale et suivi annu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71720" y="1000080"/>
            <a:ext cx="7497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Utilisation uniquement pour le dépôt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: pas de produits alimentaires ni produits biologiques ou chimiques ni médica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Serrure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vec clefs uniquement disponibles pour les personnels autorisés (sauf si local sous clef)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cédure écrite d’Hygiène des matériel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aintenance techniqu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501920" y="2087640"/>
            <a:ext cx="74977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LES MODALITÉS DE TRANSPORT DES PSL ENTRE L’EFS ET LE DÉPÔ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600" y="144000"/>
            <a:ext cx="74962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Objectifs des dépô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Principe général 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1482840" indent="-568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en France l'EFS est chargé de la délivrance des PSL directement aux malad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Fonction des dépôts 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1482840" indent="-568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Conserver des PSL pour pallier des difficultés d'approvisionnement direct auprès de l'EF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071720" y="647640"/>
            <a:ext cx="74977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ene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sothermes qualifiés ou conteneurs à température régulée </a:t>
            </a:r>
            <a:r>
              <a:rPr b="0" i="1" lang="fr-FR" sz="2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enregistrement systématique des températures de transport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i recours à un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tataire de service, un contrat </a:t>
            </a:r>
            <a:r>
              <a:rPr b="0" i="1" lang="fr-FR" sz="2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t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formation et information spécifique des chauffeu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ganisation pour renouvel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gramm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ès l'utilisation en urg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214280" y="2131920"/>
            <a:ext cx="74980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INFORMATIS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DE LA GESTION DU DÉPÔ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214280" y="928800"/>
            <a:ext cx="7498080" cy="3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Dépôt limité à l’urgence vital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 : recommandation simple pour gestion stock et traçabil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Dépôt  relais </a:t>
            </a:r>
            <a:r>
              <a:rPr b="0" i="1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: obligation pour l'ensemble de la gestion et traçabil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Dépôt de délivranc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 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-  obligation de disposer d’un logiciel de gestion du dépôt  et de sécurisation de la distribution des P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- obligation d’avoir une liaison informatique entre le laboratoire effectuant les examens d’immuno-hématologie des patients et le dépôt pour le transf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f cahier des charges informatisation des dépôts de PS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260360" y="1800360"/>
            <a:ext cx="749772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Contraintes de GESTION D’UN DÉPÔT DE P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s PSL conservés ne font l’objet d’aucune préparation, ni transformation, ni modificati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’autorité compétente est informée de tout dysfonctionnement ou de toute difficulté pouvant mettre en jeu la sécurité transfusionnelle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34960" y="204840"/>
            <a:ext cx="7499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71720" y="357120"/>
            <a:ext cx="749772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ff0000"/>
                </a:solidFill>
                <a:uFillTx/>
                <a:latin typeface="Calibri"/>
                <a:ea typeface="Lucida Sans Unicode"/>
              </a:rPr>
              <a:t>APPROVISIONNEMENT DU DEPOT DE S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r les dépôts de délivrance et d’urgence vitale PSL  non délivrés à un patient, ce sont des produits de RESER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 stock est déterminé par concertation entre les responsables de la distribution (EFS) et du dépôt (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l est notifié sur la convention qui lie l’ES à l ’EF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434960" y="144360"/>
            <a:ext cx="74995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Transpor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66960" y="2157480"/>
            <a:ext cx="541008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CONTRÔLE DES CONDITIONS DE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atériel de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qua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ttoyage, désinf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cédures de transport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alidation tenant compte des périodes critiques de l’ann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00080" y="642960"/>
            <a:ext cx="7497720" cy="57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CONTRÔLE A RECEPTION DES P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Contrôle des conditions de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ditionnement des P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urée du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empérature du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empérature des produits à ré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s produits doivent être déballés dans les locaux et par le personnel de l'établissement destinatai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s unités livrées doivent être contrôlées et rangées dans les enceintes conformes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dès l'arriv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oute anomalie constatée sur le transport est signalée par téléphone au site de distribution et notée sur le Bordereau avec le message :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"TRANSPORT NON CONFORME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 devenir des unités correspondantes est à voir conjointement avec le responsable de distribution de l'EFS et le responsable du dépô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43000" y="357120"/>
            <a:ext cx="7497720" cy="62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CONTRÔLE DE COHÉRENCE ENTRE LA DEMANDE ET LES PRODUITS RÉCEPTIONN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 chaque livraison est join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n bordereau de transfert par produit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, sur ce document figurent :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- le site d'approvisionnement (EFS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- l'établissement destinataire (ES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- le code produit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- le libellé du produit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- le group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- le n° de l'unit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i une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ifférenc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st constatée entre les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duits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gurant sur les bordereaux de transfert et les produits effectivement reçus ou si l'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figurant sur le bordereau n'est pas l'ES recevant les produits, l'EFS doit être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mmédiatement 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nformé afin de régulariser la livrai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ÉTIQUETTE du P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° du prod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grou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héno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285920" y="857160"/>
            <a:ext cx="7497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CONTRÔLE DES PRODU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6840" indent="-228600">
              <a:lnSpc>
                <a:spcPct val="100000"/>
              </a:lnSpc>
              <a:spcBef>
                <a:spcPts val="400"/>
              </a:spcBef>
              <a:buClr>
                <a:srgbClr val="828282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Aspect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6840" indent="-228600">
              <a:lnSpc>
                <a:spcPct val="100000"/>
              </a:lnSpc>
              <a:spcBef>
                <a:spcPts val="400"/>
              </a:spcBef>
              <a:buClr>
                <a:srgbClr val="828282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émoly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6840" indent="-228600">
              <a:lnSpc>
                <a:spcPct val="100000"/>
              </a:lnSpc>
              <a:spcBef>
                <a:spcPts val="400"/>
              </a:spcBef>
              <a:buClr>
                <a:srgbClr val="828282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aill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6840" indent="-228600">
              <a:lnSpc>
                <a:spcPct val="100000"/>
              </a:lnSpc>
              <a:spcBef>
                <a:spcPts val="400"/>
              </a:spcBef>
              <a:buClr>
                <a:srgbClr val="828282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grég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6840" indent="-228600">
              <a:lnSpc>
                <a:spcPct val="100000"/>
              </a:lnSpc>
              <a:spcBef>
                <a:spcPts val="400"/>
              </a:spcBef>
              <a:buClr>
                <a:srgbClr val="828282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ntégrité du système c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357200" y="1979640"/>
            <a:ext cx="74977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SURVEILLANCE  DU DÉPÔT DE P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 u="sng">
                <a:solidFill>
                  <a:srgbClr val="00b050"/>
                </a:solidFill>
                <a:uFillTx/>
                <a:latin typeface="Calibri"/>
                <a:ea typeface="Lucida Sans Unicode"/>
              </a:rPr>
              <a:t>RÔLE DE l’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600" y="144000"/>
            <a:ext cx="749484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Nombre de dépô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08000" y="1447920"/>
            <a:ext cx="81360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Nombre de dépôts classés par typ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dans 22 région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Type de dépôt </a:t>
            </a: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nomb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DELIVRANCE </a:t>
            </a: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    16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LAIS </a:t>
            </a: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               2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URGENCE VI </a:t>
            </a: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    17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UV+RELAIS </a:t>
            </a: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        268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Total </a:t>
            </a: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                      63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143000" y="214200"/>
            <a:ext cx="764388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 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CONTRÔLE DU ST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érification des P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angement des PSL en zones distinc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buClr>
                <a:srgbClr val="9c9c9c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Homologues de réserve par groupe, phénotype RH-Kell et date de 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ortie de st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s PSL sortis du stock et non transfusés ne sont pas réintég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nventaire du stock dispo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CONTRÔLE DES CONDITIONS DE CON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atériel de stockage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buClr>
                <a:srgbClr val="9c9c9c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Qualification  ou requalification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si intervention et en fonction du degré de l’intervention)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avant mise en serv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buClr>
                <a:srgbClr val="9c9c9c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buClr>
                <a:srgbClr val="9c9c9c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ttoyage, désinf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lar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buClr>
                <a:srgbClr val="9c9c9c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eu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buClr>
                <a:srgbClr val="9c9c9c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érifications périod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nregistrement des températur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spcBef>
                <a:spcPts val="550"/>
              </a:spcBef>
              <a:buClr>
                <a:srgbClr val="9c9c9c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spcBef>
                <a:spcPts val="550"/>
              </a:spcBef>
              <a:buClr>
                <a:srgbClr val="9c9c9c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naly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spcBef>
                <a:spcPts val="550"/>
              </a:spcBef>
              <a:buClr>
                <a:srgbClr val="9c9c9c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rchiv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14280" y="428760"/>
            <a:ext cx="7498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uivi des non-conformi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550"/>
              </a:spcBef>
              <a:buClr>
                <a:srgbClr val="9c9c9c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édaction des fi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550"/>
              </a:spcBef>
              <a:buClr>
                <a:srgbClr val="9c9c9c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nalyse des non-conformi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550"/>
              </a:spcBef>
              <a:buClr>
                <a:srgbClr val="9c9c9c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ise en place de mesures corr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66760">
              <a:lnSpc>
                <a:spcPct val="100000"/>
              </a:lnSpc>
              <a:spcBef>
                <a:spcPts val="550"/>
              </a:spcBef>
              <a:buClr>
                <a:srgbClr val="9c9c9c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cédures de gestion des non conformi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6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01920" y="1417680"/>
            <a:ext cx="7497720" cy="25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SURVEILLANCE  DU DÉPÔT DE P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 u="sng">
                <a:solidFill>
                  <a:srgbClr val="0000ff"/>
                </a:solidFill>
                <a:uFillTx/>
                <a:latin typeface="Calibri"/>
                <a:ea typeface="Lucida Sans Unicode"/>
              </a:rPr>
              <a:t>RÔLE DE l’EF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214280" y="428760"/>
            <a:ext cx="749808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ifférents points contrôlés de l’EF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pprovisi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ditions de transport des PSL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buClr>
                <a:srgbClr val="9c9c9c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on de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buClr>
                <a:srgbClr val="9c9c9c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nregistrement des tempér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ditions de conservation des PSL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buClr>
                <a:srgbClr val="9c9c9c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isite des dépô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buClr>
                <a:srgbClr val="9c9c9c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levés des enregistrements de température des enceintes de con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tilisation des P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buClr>
                <a:srgbClr val="9c9c9c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bsence de stock inform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buClr>
                <a:srgbClr val="9c9c9c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Absence de transformation ou de qualification des PSL par le dépô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buClr>
                <a:srgbClr val="9c9c9c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espect des bonnes pratiques de déliv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6840">
              <a:lnSpc>
                <a:spcPct val="100000"/>
              </a:lnSpc>
              <a:buClr>
                <a:srgbClr val="828282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écessité de disposer des documents I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6840">
              <a:lnSpc>
                <a:spcPct val="100000"/>
              </a:lnSpc>
              <a:buClr>
                <a:srgbClr val="828282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cription en cas de délivrance par le dépôt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UVI ou réattribu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6840">
              <a:lnSpc>
                <a:spcPct val="100000"/>
              </a:lnSpc>
              <a:buClr>
                <a:srgbClr val="828282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evenir des PSL sortis du stock et non transfus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trôle du retour de traçabilité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buClr>
                <a:srgbClr val="9c9c9c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es PSL transfus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buClr>
                <a:srgbClr val="9c9c9c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es PSL retournés à l ’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>
              <a:lnSpc>
                <a:spcPct val="100000"/>
              </a:lnSpc>
              <a:buClr>
                <a:srgbClr val="9c9c9c"/>
              </a:buClr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es produits détru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24000" y="2448000"/>
            <a:ext cx="7497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DOCUMENTS 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143000" y="857160"/>
            <a:ext cx="7497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0000ff"/>
                </a:solidFill>
                <a:uFillTx/>
                <a:latin typeface="Calibri"/>
                <a:ea typeface="Lucida Sans Unicode"/>
              </a:rPr>
              <a:t>Les modalités de fonctionnement du dépôt de s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iste du personnel, qualifications, formation, plan de formation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es plages horaires de fonctionnement du dépôt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escription du local (plan, ventilation, température)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atériels de conservation et de décongélation des produits sanguins labiles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Qualification du matériel et contrat de maintenance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s de maintenance, entretien et hygiène du matériel et du local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cédure d’urgence vitale (3 niveaux) et réapprovisionnement sans délai du stock d’urg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000080" y="500040"/>
            <a:ext cx="7497720" cy="51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0000ff"/>
                </a:solidFill>
                <a:uFillTx/>
                <a:latin typeface="Calibri"/>
                <a:ea typeface="Lucida Sans Unicode"/>
              </a:rPr>
              <a:t>Les modalités de sécurisation du dépôt et des PSL conserv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s et conditions de reprise, par l’ETS référent des PSL conservé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s de destruction et d’élimination des déchets en cas de destruction in situ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duite à tenir en cas d’incident ou de dysfonctionnement dans le dépôt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s de signalement des incidents et dysfonctionnements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 de suivi des dépôts de sang par l’ETS référent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s et conditions de rappel des PS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0000ff"/>
                </a:solidFill>
                <a:uFillTx/>
                <a:latin typeface="Calibri"/>
                <a:ea typeface="Lucida Sans Unicode"/>
              </a:rPr>
              <a:t>Les modalités d’approvisionnement du dépôt de s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mposition du stock de PSL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mmande, prescription, procédure en cas de prescription non conforme ; transports planifiés ou en urgen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s de contrôle à réception des produits sanguins labile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s de gestion du st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14280" y="357120"/>
            <a:ext cx="7498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0000ff"/>
                </a:solidFill>
                <a:uFillTx/>
                <a:latin typeface="Calibri"/>
                <a:ea typeface="Lucida Sans Unicode"/>
              </a:rPr>
              <a:t>Les modalités de la délivrance des PSL par le dépôt de s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s de prescription et de délivran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s de décongélation des plasmas frais congelés PFC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s de la traçabilité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s d’archivage (disques d’enregistrement, procédures de contrôle, dossier transfusionnel...)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cédure de transfert d’un patient par une équipe urgentiste avec ses produits sanguins labiles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nvention de délivrance en urgence vitale à un autre ES ; Modalités de délivrance à un autre patient d’un PSL délivré mais non utilis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0000ff"/>
                </a:solidFill>
                <a:uFillTx/>
                <a:latin typeface="Calibri"/>
                <a:ea typeface="Lucida Sans Unicode"/>
              </a:rPr>
              <a:t>Les modalités de transfert des PSL par le dépôt relais dans les unités de soi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s de réception et de conservation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s de transfert des PSL délivrés à un patient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s de la traçabilité des PSL dans le dépôt de sang et vers l’ETS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dalités d’archivage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supports d’enregistrement, procédures de contrôle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285920" y="285840"/>
            <a:ext cx="7497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654280" y="321480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ARCHIVAGE DES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143000" y="285840"/>
            <a:ext cx="7786800" cy="66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 u="sng">
                <a:solidFill>
                  <a:srgbClr val="0000ff"/>
                </a:solidFill>
                <a:uFillTx/>
                <a:latin typeface="Calibri"/>
                <a:ea typeface="Lucida Sans Unicode"/>
              </a:rPr>
              <a:t>Indications sur la durée de l’archiv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ganigramme et les Fiches de poste :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Pendant toute la durée de sa valid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ocaux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che mensuelle de qualification :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che d’entretien des locaux :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ystème documentaire de fonctionnement du dépôt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: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endant toute la durée de sa validité, si modification, l’ancienne version est archivée :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ossier Matériel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Qualification, fiche de vie, maintenance, enregistrement des températures : pendant toute la durée de sa validité, e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3 an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après son changeme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che d’entretien du matériel :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ransport et matériel de transpo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ossier de qualification pendant toute la durée de sa validité e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 an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après son chang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ourbes de température des transports :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ocuments contrôle à réception des PSL :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 an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ocuments nécessaires à la délivrance des PSL et à l’hémovigilance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cription, documents IH, FDN et le cas échéan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EIR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: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30 a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600" y="144000"/>
            <a:ext cx="749484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L'activité des dépôts en 201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03280" y="2340000"/>
          <a:ext cx="7494480" cy="4048200"/>
        </p:xfrm>
        <a:graphic>
          <a:graphicData uri="http://schemas.openxmlformats.org/drawingml/2006/table">
            <a:tbl>
              <a:tblPr/>
              <a:tblGrid>
                <a:gridCol w="3746520"/>
                <a:gridCol w="3747960"/>
              </a:tblGrid>
              <a:tr h="187812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6040"/>
                          <a:tab algn="l" pos="895320"/>
                          <a:tab algn="l" pos="1344600"/>
                          <a:tab algn="l" pos="1793880"/>
                          <a:tab algn="l" pos="2243160"/>
                          <a:tab algn="l" pos="2692440"/>
                          <a:tab algn="l" pos="3141720"/>
                          <a:tab algn="l" pos="3591000"/>
                          <a:tab algn="l" pos="4040280"/>
                          <a:tab algn="l" pos="4489560"/>
                          <a:tab algn="l" pos="4938840"/>
                          <a:tab algn="l" pos="5389560"/>
                          <a:tab algn="l" pos="5837400"/>
                          <a:tab algn="l" pos="6286680"/>
                          <a:tab algn="l" pos="6735600"/>
                          <a:tab algn="l" pos="7184880"/>
                          <a:tab algn="l" pos="7634160"/>
                          <a:tab algn="l" pos="8083440"/>
                          <a:tab algn="l" pos="8532720"/>
                          <a:tab algn="l" pos="8982000"/>
                          <a:tab algn="l" pos="8983800"/>
                          <a:tab algn="l" pos="9433080"/>
                          <a:tab algn="l" pos="988236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.S.L. Délivrés par les dépôts de 22 régio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.S.L. Délivrés ou transférés par les dépôts de 22 régio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170080"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 25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 2 962 213 délivrés 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6 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12320" bIns="46800" anchor="t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 5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 2 962 213 délivrés 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5 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TEXTES RÉGLEM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434960" y="138240"/>
            <a:ext cx="7493040" cy="63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Article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Gill Sans MT"/>
                <a:ea typeface="Lucida Sans Unicode"/>
                <a:hlinkClick r:id="rId2"/>
              </a:rPr>
              <a:t>L. 1221-10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 du Code de la Santé Publique (Ordonnance du 01/09/0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 u="sng">
                <a:solidFill>
                  <a:srgbClr val="ccccff"/>
                </a:solidFill>
                <a:uFillTx/>
                <a:latin typeface="Gill Sans MT"/>
                <a:ea typeface="Lucida Sans Unicode"/>
                <a:hlinkClick r:id="rId3"/>
              </a:rPr>
              <a:t>Art. R. 1221-19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  du Code de la Santé Publique (définition d'un dépô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 u="sng">
                <a:solidFill>
                  <a:srgbClr val="ccccff"/>
                </a:solidFill>
                <a:uFillTx/>
                <a:latin typeface="Gill Sans MT"/>
                <a:ea typeface="Lucida Sans Unicode"/>
                <a:hlinkClick r:id="rId4"/>
              </a:rPr>
              <a:t>decret du 7 septembre 2007 relatif aux dépôts de sang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 u="sng">
                <a:solidFill>
                  <a:srgbClr val="ccccff"/>
                </a:solidFill>
                <a:uFillTx/>
                <a:latin typeface="Gill Sans MT"/>
                <a:ea typeface="Lucida Sans Unicode"/>
                <a:hlinkClick r:id="rId5"/>
              </a:rPr>
              <a:t>Arrêté du 30 octobre 2007  conditions d'autorisations des dépôts de sa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 u="sng">
                <a:solidFill>
                  <a:srgbClr val="ccccff"/>
                </a:solidFill>
                <a:uFillTx/>
                <a:latin typeface="Gill Sans MT"/>
                <a:ea typeface="Lucida Sans Unicode"/>
                <a:hlinkClick r:id="rId6"/>
              </a:rPr>
              <a:t>Arrêté du 30 octobre 2007 fixant le modèle type de convention entre un établissement de santé et l'établissement de transfusion sanguine référent pour l'établissement d'un dépôt de s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Article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Gill Sans MT"/>
                <a:ea typeface="Lucida Sans Unicode"/>
                <a:hlinkClick r:id="rId7"/>
              </a:rPr>
              <a:t>L.1223-3 du Code de la Santé Publ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 u="sng">
                <a:solidFill>
                  <a:srgbClr val="ccccff"/>
                </a:solidFill>
                <a:uFillTx/>
                <a:latin typeface="Gill Sans MT"/>
                <a:ea typeface="Lucida Sans Unicode"/>
                <a:hlinkClick r:id="rId8"/>
              </a:rPr>
              <a:t>Décision du 6 novembre 2006 du DG de l'Afssaps définissant les principes de bonnes pratiques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 (en application du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Gill Sans MT"/>
                <a:ea typeface="Lucida Sans Unicode"/>
                <a:hlinkClick r:id="rId9"/>
              </a:rPr>
              <a:t>L.1223-3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 u="sng">
                <a:solidFill>
                  <a:srgbClr val="ccccff"/>
                </a:solidFill>
                <a:uFillTx/>
                <a:latin typeface="Gill Sans MT"/>
                <a:ea typeface="Lucida Sans Unicode"/>
                <a:hlinkClick r:id="rId10"/>
              </a:rPr>
              <a:t>Arrêté du 30 octobre 2007 fixant la liste des matériels des dépôts de sang prévue à l'article R. 1221-20-4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Article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Gill Sans MT"/>
                <a:ea typeface="Lucida Sans Unicode"/>
                <a:hlinkClick r:id="rId11"/>
              </a:rPr>
              <a:t> R 1223-23 (qualifications des personn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 u="sng">
                <a:solidFill>
                  <a:srgbClr val="ccccff"/>
                </a:solidFill>
                <a:uFillTx/>
                <a:latin typeface="Gill Sans MT"/>
                <a:ea typeface="Lucida Sans Unicode"/>
                <a:hlinkClick r:id="rId12"/>
              </a:rPr>
              <a:t>Arrêté du 3 décembre 2007 relatif aux qualifications de certains personnels des dépôts de sang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 u="sng">
                <a:solidFill>
                  <a:srgbClr val="ccccff"/>
                </a:solidFill>
                <a:uFillTx/>
                <a:latin typeface="Gill Sans MT"/>
                <a:ea typeface="Lucida Sans Unicode"/>
                <a:hlinkClick r:id="rId13"/>
              </a:rPr>
              <a:t>Arrêté du 16 décembre 2008 portant homologation du cahier des charges de la formation des personnels des dépôts de sang.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 u="sng">
                <a:solidFill>
                  <a:srgbClr val="ccccff"/>
                </a:solidFill>
                <a:uFillTx/>
                <a:latin typeface="Gill Sans MT"/>
                <a:ea typeface="Lucida Sans Unicode"/>
                <a:hlinkClick r:id="rId14"/>
              </a:rPr>
              <a:t>Arrêté du 15 juillet 2009 modifiant l’arrêté du 3 décembre 2007 relatif aux qualifications de certains personnels des dépôts de s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295280" y="2023920"/>
            <a:ext cx="73011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Autorisation, Organisation et moy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1214280"/>
            <a:ext cx="771516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9387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387000"/>
                <a:tab algn="l" pos="9834480"/>
                <a:tab algn="l" pos="10283760"/>
                <a:tab algn="l" pos="10733040"/>
                <a:tab algn="l" pos="11182320"/>
                <a:tab algn="l" pos="11631600"/>
                <a:tab algn="l" pos="12080880"/>
                <a:tab algn="l" pos="12530160"/>
                <a:tab algn="l" pos="12979440"/>
                <a:tab algn="l" pos="13428720"/>
                <a:tab algn="l" pos="13878000"/>
                <a:tab algn="l" pos="14327280"/>
                <a:tab algn="l" pos="14776560"/>
                <a:tab algn="l" pos="15225840"/>
                <a:tab algn="l" pos="15675120"/>
                <a:tab algn="l" pos="16124400"/>
                <a:tab algn="l" pos="16573680"/>
                <a:tab algn="l" pos="17022600"/>
                <a:tab algn="l" pos="17471880"/>
                <a:tab algn="l" pos="17921160"/>
                <a:tab algn="l" pos="1837044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Dépôt soumis à autorisation de ARS, valable 5 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87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387000"/>
                <a:tab algn="l" pos="9834480"/>
                <a:tab algn="l" pos="10283760"/>
                <a:tab algn="l" pos="10733040"/>
                <a:tab algn="l" pos="11182320"/>
                <a:tab algn="l" pos="11631600"/>
                <a:tab algn="l" pos="12080880"/>
                <a:tab algn="l" pos="12530160"/>
                <a:tab algn="l" pos="12979440"/>
                <a:tab algn="l" pos="13428720"/>
                <a:tab algn="l" pos="13878000"/>
                <a:tab algn="l" pos="14327280"/>
                <a:tab algn="l" pos="14776560"/>
                <a:tab algn="l" pos="15225840"/>
                <a:tab algn="l" pos="15675120"/>
                <a:tab algn="l" pos="16124400"/>
                <a:tab algn="l" pos="16573680"/>
                <a:tab algn="l" pos="17022600"/>
                <a:tab algn="l" pos="17471880"/>
                <a:tab algn="l" pos="17921160"/>
                <a:tab algn="l" pos="1837044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. R. 1221-20-1. – Pour être autorisé, un dépôt de sang doit remplir les conditions suivant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87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387000"/>
                <a:tab algn="l" pos="9834480"/>
                <a:tab algn="l" pos="10283760"/>
                <a:tab algn="l" pos="10733040"/>
                <a:tab algn="l" pos="11182320"/>
                <a:tab algn="l" pos="11631600"/>
                <a:tab algn="l" pos="12080880"/>
                <a:tab algn="l" pos="12530160"/>
                <a:tab algn="l" pos="12979440"/>
                <a:tab algn="l" pos="13428720"/>
                <a:tab algn="l" pos="13878000"/>
                <a:tab algn="l" pos="14327280"/>
                <a:tab algn="l" pos="14776560"/>
                <a:tab algn="l" pos="15225840"/>
                <a:tab algn="l" pos="15675120"/>
                <a:tab algn="l" pos="16124400"/>
                <a:tab algn="l" pos="16573680"/>
                <a:tab algn="l" pos="17022600"/>
                <a:tab algn="l" pos="17471880"/>
                <a:tab algn="l" pos="17921160"/>
                <a:tab algn="l" pos="1837044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- Disposer d’une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ganisation et de moyens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87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387000"/>
                <a:tab algn="l" pos="9834480"/>
                <a:tab algn="l" pos="10283760"/>
                <a:tab algn="l" pos="10733040"/>
                <a:tab algn="l" pos="11182320"/>
                <a:tab algn="l" pos="11631600"/>
                <a:tab algn="l" pos="12080880"/>
                <a:tab algn="l" pos="12530160"/>
                <a:tab algn="l" pos="12979440"/>
                <a:tab algn="l" pos="13428720"/>
                <a:tab algn="l" pos="13878000"/>
                <a:tab algn="l" pos="14327280"/>
                <a:tab algn="l" pos="14776560"/>
                <a:tab algn="l" pos="15225840"/>
                <a:tab algn="l" pos="15675120"/>
                <a:tab algn="l" pos="16124400"/>
                <a:tab algn="l" pos="16573680"/>
                <a:tab algn="l" pos="17022600"/>
                <a:tab algn="l" pos="17471880"/>
                <a:tab algn="l" pos="17921160"/>
                <a:tab algn="l" pos="1837044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- Disposer d’un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édecin ou d’un pharmacien responsable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e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ersonnels habilité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.....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87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387000"/>
                <a:tab algn="l" pos="9834480"/>
                <a:tab algn="l" pos="10283760"/>
                <a:tab algn="l" pos="10733040"/>
                <a:tab algn="l" pos="11182320"/>
                <a:tab algn="l" pos="11631600"/>
                <a:tab algn="l" pos="12080880"/>
                <a:tab algn="l" pos="12530160"/>
                <a:tab algn="l" pos="12979440"/>
                <a:tab algn="l" pos="13428720"/>
                <a:tab algn="l" pos="13878000"/>
                <a:tab algn="l" pos="14327280"/>
                <a:tab algn="l" pos="14776560"/>
                <a:tab algn="l" pos="15225840"/>
                <a:tab algn="l" pos="15675120"/>
                <a:tab algn="l" pos="16124400"/>
                <a:tab algn="l" pos="16573680"/>
                <a:tab algn="l" pos="17022600"/>
                <a:tab algn="l" pos="17471880"/>
                <a:tab algn="l" pos="17921160"/>
                <a:tab algn="l" pos="1837044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3- Pour les dépôts de délivrance, disposer de moyens de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réception électronique des analyses d’immuno-hématologie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870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387000"/>
                <a:tab algn="l" pos="9834480"/>
                <a:tab algn="l" pos="10283760"/>
                <a:tab algn="l" pos="10733040"/>
                <a:tab algn="l" pos="11182320"/>
                <a:tab algn="l" pos="11631600"/>
                <a:tab algn="l" pos="12080880"/>
                <a:tab algn="l" pos="12530160"/>
                <a:tab algn="l" pos="12979440"/>
                <a:tab algn="l" pos="13428720"/>
                <a:tab algn="l" pos="13878000"/>
                <a:tab algn="l" pos="14327280"/>
                <a:tab algn="l" pos="14776560"/>
                <a:tab algn="l" pos="15225840"/>
                <a:tab algn="l" pos="15675120"/>
                <a:tab algn="l" pos="16124400"/>
                <a:tab algn="l" pos="16573680"/>
                <a:tab algn="l" pos="17022600"/>
                <a:tab algn="l" pos="17471880"/>
                <a:tab algn="l" pos="17921160"/>
                <a:tab algn="l" pos="1837044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5- Pour les dépôts relais et les dépôts de délivrance, disposer d’un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système informatisé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permettant d’assurer la gestion et la traçabi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8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7000"/>
                <a:tab algn="l" pos="9834480"/>
                <a:tab algn="l" pos="10283760"/>
                <a:tab algn="l" pos="10733040"/>
                <a:tab algn="l" pos="11182320"/>
                <a:tab algn="l" pos="11631600"/>
                <a:tab algn="l" pos="12080880"/>
                <a:tab algn="l" pos="12530160"/>
                <a:tab algn="l" pos="12979440"/>
                <a:tab algn="l" pos="13428720"/>
                <a:tab algn="l" pos="13878000"/>
                <a:tab algn="l" pos="14327280"/>
                <a:tab algn="l" pos="14776560"/>
                <a:tab algn="l" pos="15225840"/>
                <a:tab algn="l" pos="15675120"/>
                <a:tab algn="l" pos="16124400"/>
                <a:tab algn="l" pos="16573680"/>
                <a:tab algn="l" pos="17022600"/>
                <a:tab algn="l" pos="17471880"/>
                <a:tab algn="l" pos="17921160"/>
                <a:tab algn="l" pos="18370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928880" y="274680"/>
            <a:ext cx="61434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Gill Sans MT"/>
                <a:ea typeface="Lucida Sans Unicode"/>
              </a:rPr>
              <a:t>La création d’un dépô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14280" y="1214280"/>
            <a:ext cx="7086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Autorisation de 5 ans délivrée par l'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Calibri"/>
                <a:ea typeface="Lucida Sans Unicode"/>
              </a:rPr>
              <a:t>Critères de création ou de maintien d'un dépôt de PSL dans l’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loignement d'un site transfusionnel d'un EFS,  en  </a:t>
            </a:r>
            <a:r>
              <a:rPr b="1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élai d'acheminement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ans l'ES, service </a:t>
            </a:r>
            <a:r>
              <a:rPr b="1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'urgence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, SMUR ,  services de chirurgie, </a:t>
            </a:r>
            <a:r>
              <a:rPr b="1" lang="fr-FR" sz="2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'obstétriqu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2:46:42Z</dcterms:created>
  <dc:creator>Tazerout</dc:creator>
  <dc:description/>
  <dc:language>en-US</dc:language>
  <cp:lastModifiedBy/>
  <dcterms:modified xsi:type="dcterms:W3CDTF">2012-10-01T16:59:49Z</dcterms:modified>
  <cp:revision>28</cp:revision>
  <dc:subject/>
  <dc:title>Diapositive 1</dc:title>
</cp:coreProperties>
</file>