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720" y="1979640"/>
            <a:ext cx="86076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Formation des responsables médicaux de dépôts UV et Relai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41240" y="3600000"/>
            <a:ext cx="860760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ésentation géné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Réglement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bligatoire pour responsable médical et son remplaçant (avant 09/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urée 35 h théorie, stage et pra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rganisme agrée F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 des points d'accréd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Organisation formation Adhe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journée de formation thé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stage pratique EFS (équivalent 4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partie pratique dans votre 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 travaux pr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demi journ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pléments théor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cadr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évaluation de la formation (obligation FM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33"/>
                </a:solidFill>
                <a:latin typeface="Arial"/>
              </a:rPr>
              <a:t>Objectifs de la form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93356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tre cap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comprendre la rég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participer au système qualité du dépô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former les personnels h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'apporter l'information sur le dépôt aux médecins de l'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 faire face aux incidents du dépô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'évaluer le dépô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7:56:15Z</dcterms:created>
  <dc:creator>gerald Daurat</dc:creator>
  <dc:description/>
  <dc:language>en-US</dc:language>
  <cp:lastModifiedBy/>
  <cp:revision>1</cp:revision>
  <dc:subject/>
  <dc:title/>
</cp:coreProperties>
</file>