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5CE78-3055-4A4F-9870-6B984B721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F2F-64A8-4A9D-8E66-E3653222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832-C2B0-4255-9197-6E2A0DC6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C36-EF54-470A-8241-C9DAED39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04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5360" y="197928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04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5360" y="4139640"/>
            <a:ext cx="28494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BB5-A5C3-4DE7-9E17-FB470E50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F52-D2AC-44EF-BECD-E717F8AE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219-5187-49B3-8E9C-BCF3A22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D4-0616-440D-835F-78FCFAF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36C-0579-47EF-B163-D966EE0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DF2-F080-45D9-BACD-4B0A6FF6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E78-BCE1-41D0-8A64-37C7D43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5640" y="413964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2EF-D239-4C24-B281-7B3B0D98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5640" y="1979280"/>
            <a:ext cx="43185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9640"/>
            <a:ext cx="8850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F64-6709-458F-BC1E-FFA835D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79280"/>
            <a:ext cx="88502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56244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A4AE-BA48-4025-9505-E9C8FE977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1463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Incidents graves de fonctionnement dans des dépôts d'Urgence Vita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3959280"/>
            <a:ext cx="88549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éflexion sur l'organisation pratique des dépôts d'urgence vi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ccccff"/>
                </a:solidFill>
                <a:uFillTx/>
                <a:latin typeface="Arial"/>
              </a:rPr>
              <a:t>Incident 1</a:t>
            </a: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  incident 2   incident 3  incide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Description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Un ASH se présente au personnel habilité du dépôt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avec deux étiquettes au nom d'un patient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Il demande « deux poches de sang  en urgence »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Ne peut présenter aucune ordonnanc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Réaction du personnel du dépôt UV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ucun élément ne permet de délivrer des CGR à un ASH ne présentant que des étiquettes de malad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envoie l'ASH vers son servi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Ne s'enquiert pas de la réalité de l'urgenc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A l'autre bout de la chaîn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360" y="1466640"/>
            <a:ext cx="88549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alade en hémorragie massive, non contrôlé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Menace de désamorçage malgré remplissage rapide avec macro molécul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'anesthésiste attend désespérément les CGR, et ne parvient pas à comprendre ce que lui relate l'ASH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Situation vécue comme absurde, ajoute au stress de l'équip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rrivée « juste à temps » des CGR par le circuit des commandes UV à l'EFS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L'équipe parvient à sauver le malade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Analys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360" y="1618920"/>
            <a:ext cx="8854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Gros ES, les personnels du dépôt ne connaissent pas ceux des services cliniqu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Ne peuvent pas se fier à une demande aussi « fantaisiste »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édecin : aucune rigueur dans la demande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pas de prescription, juste un ordre oral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SH, perçoit mal les enjeux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rapporte la réaction du dépôt au milieu de situation de stress extrême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Réaction de l'équipe inadaptée (!§</a:t>
            </a:r>
            <a:r>
              <a:rPr b="0" lang="fr-FR" sz="2800" spc="-1" strike="noStrike">
                <a:solidFill>
                  <a:srgbClr val="000080"/>
                </a:solidFill>
                <a:latin typeface="Wingdings"/>
                <a:ea typeface="Wingdings"/>
              </a:rPr>
              <a:t></a:t>
            </a: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!!!!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Le risqu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Immédiat, décès du patient évité de justesse par l'arrivée de CGR du circuit d'urgence EFS/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Propositions de 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Faites des propositions 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Information des médecins sur obligation de prescription écrite, signée 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ppel du praticien par le dépôt, obligatoirement, en cas de problème avec la demande (illisible, non écrite, excessive ....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Cas particulier de ce dépôt : transfert dans un service de réa très proche des lieux d'utilisation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2571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as Numéro 3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000" y="270036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ans ES de petite taille avec maternité, chirurgie, medeci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pôt UV 2O- et 3 O+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Description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440000"/>
            <a:ext cx="885492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 2 h du matin, hémorragie de la délivrance en maternité pour femme B+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rescription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orale en UVI de 2 CGR du dépôt UV et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écrite à l'EFS de 3 CGR à transporter en urgence immédiate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Une IDE va au dépôt UV (situé en médecine) et prend 2 CGR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u moment de transfuser, l'anesthésiste s'aperçoit que l'un des CGR est A+ et arrête au dernier moment sa transfusion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Risque 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Transfusion ABO incompatible 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Aggravation de l'hémorragi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Du choc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Augmentation du risque de CIV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ronostic vital engagé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e plus prescription ne précisait pas le phénotype :  risque d'immunisation anti RH4 éventu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1439640"/>
            <a:ext cx="9070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Incident 1</a:t>
            </a:r>
            <a:br>
              <a:rPr sz="4400"/>
            </a:b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3240000"/>
            <a:ext cx="88549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Importante maternité du L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pôt UV de 3 O- et 3 O+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hronologi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440000"/>
            <a:ext cx="885492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rrivée la veille à 19 h de 2 CGR A+ pour un patient de médecine, 1 CGR posé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ise dans le dépôt UV de 1 CGR, en attente de transfusion le lendemain matin, par IDE de médeci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 2h du matin : prescription UV orale, IDE du bloc va se servir directement dans le dépôt UV et prend le CGR laissé là en attente. Pas d'autre vérification avant de donner le CGR à l'anesthésist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Analys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619280"/>
            <a:ext cx="885492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contrôle d'accès au dépô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ccès par personnel non habilité (IDE 1 et 2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Wingdings"/>
                <a:ea typeface="Wingdings"/>
              </a:rPr>
              <a:t></a:t>
            </a: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CGR A + entreposé dans dépôt UV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e dépôt n'est pas un dépôt relai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Wingdings"/>
                <a:ea typeface="Wingdings"/>
              </a:rPr>
              <a:t></a:t>
            </a: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CGR pris sans précau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prescription écri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Pas de précision sur le Rh D (ici O+ nécessaire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Propositions de 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Faites des propositions 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885492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Habilitation du personn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ise en sécurité de la clef du dépô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Obligation matérielle de passer par le personnel habilité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Information des médecins sur la coordination entre prescription des CGR et contraintes logistiques de transfusion pour le service médecin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Etude d'un changement de lieu du dépô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28224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as numéro 4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ans une importante maternité de la région L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vec un dépôt UV 3O- 3O+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Description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Hémorragie de la délivrance, malade A Rh1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rescription écrite de 2 CGR O-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IDE se rend au dépô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ersonnel habilité ouvre enceinte pour délivrer les CGR O-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CGR O-, la barquette est vide, mais seulement 3 O+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Risqu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etard à la transfus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isque vital engagé si 3 CGR ne suffisent pa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Ou transfusion de Rh+ au lieu de Rh- à une jeune femm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Analys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88534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eux jours avant, utilisation  du dépôt UV par le bloc, 3 CGR O-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ersonnel du bloc, non habilité au dépôt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traçabilité de l'opération de délivrance;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réapprovisionnement du dépô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vérification de l'état quotidien du stock les jours suiva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ais, malade Rh1, la prescription était inadaptée, 2 CGR O+ délivré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auses racin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es procédures prévoyaient que le service qui utilisait le dépôt était chargé du réapprovisionnemen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eut on à la fois s'occuper du malade en UVI et lancer un réapprovisionnement 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e plus le médecin n'a pas respecté le phénotype de la patien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Propositions de 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Faites des propositions 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Description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ors de renouvellement de stock par EF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Examen du disque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Arial"/>
              </a:rPr>
              <a:t>6 h à -15 °C puis remontée à +4 °C, trois jours avant le renouvellemen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Lecture des enregistreurs électroniqu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Arial"/>
              </a:rPr>
              <a:t>Confirmation des données du disqu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onc, CGR hémolysés à 100 % conservés à disposition pendant 3 Jour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Mesures décidées en CSTH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5720" indent="-67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Modification des procédures 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467720" indent="-562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C'est le personnel habilité du dépôt qui effectue la totalité des opérations (délivrance, traçabilité, réapprovisionnement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signation des responsables des opérations de surveillance quotidien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Traçabilité des opérations de surveillance quotidienne noté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75720" indent="-67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cision d'informer les médecins sur l'utilisation des O+ et O-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88534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ans ces 4 cas réels de 2007 et 2008, ce qui peut apparaître comme petit détail, aurait pu entrainer le décès d'un patien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'UVI implique une plus grande rigueur et non pas de l'improvisation, comme on le croit parfoi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Nécessité de prévoir une organisation solide et rigoureu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Nécessité que tous les personnels médicaux et non médicaux respectent scrupuleusement les procédur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Les risqu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En Urgence Vitale Immédiate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Ne pas se rendre compte de l'hémolyse des CGR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Transfusion d'hémoglobine libre (50 g environ par PSL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Risque d'aggravation majeure de l'état de la parturiente (précipite CIVD, Insuff rénale.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Chronologi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360" y="1619280"/>
            <a:ext cx="885492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clenchement alar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cquittée et neutralisée par personnel IDE présen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'alerte des services techniqu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Le compresseur continue à fonctionner en permanence, descente à -15 °C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eprise spontanée de fonctionnement du thermostat, au bout de quelques heur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Retour à la température de consign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Jours suivants</a:t>
            </a: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CGR hémolysés conservés dans le dépôt, sans que quiconque s'aperçoive de leur ét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Pas d'examen des courbes de températu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3 J après, l'EFS en renouvelant les CGR constate l'inciden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Analyse de l'incide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Alarme a fonctionné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ersonnel non formé au dépôt UV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au courant de procédure en cas d'alar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Arial"/>
              </a:rPr>
              <a:t>Désactive l'alarme, qui ne se re-déclenche plu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rocédures peu accessibl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e renvoi d'alarme,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Pas d'examen régulier des enregistrements et de l'état du dépô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Propositions de mesures correctiv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Faites des propositions :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280099"/>
                </a:solidFill>
                <a:latin typeface="Arial"/>
              </a:rPr>
              <a:t>Incident 2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ans important ES de la région L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80"/>
                </a:solidFill>
                <a:latin typeface="Arial"/>
              </a:rPr>
              <a:t>Dépôt UV dans le LABM, à 5 à 7 minutes des services utilisateur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5:58:18Z</dcterms:created>
  <dc:creator>gerald daurat</dc:creator>
  <dc:description/>
  <dc:language>en-US</dc:language>
  <cp:lastModifiedBy/>
  <cp:revision>1</cp:revision>
  <dc:subject/>
  <dc:title/>
</cp:coreProperties>
</file>