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559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336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559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559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4AF6A-8189-4CD7-BF23-6082A8DF2C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43000" y="68580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68580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43000" y="68580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43000" y="68580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43000" y="68580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609-3330-436B-8F88-B6D19B82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5656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86080"/>
            <a:ext cx="775656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A4D-27F9-4EDE-B155-A196E2A0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86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48000" y="4186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AAC-AA5B-4ABA-A468-5709DCA2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5840" y="1981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18440" y="1981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86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95840" y="4186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18440" y="4186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337-3DD1-4FD6-9AA0-D9D2E4A1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B7C2-A582-40A1-8180-515CD89B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5656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5C90-056A-4EA8-A57A-D61A90D5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5656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E6E9-BAC6-43A3-99B3-6C0CDDD1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E14C-B0C8-4E78-872D-735232A5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FBE3-66FD-4576-9435-F7DE3BF2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310680"/>
            <a:ext cx="7756560" cy="65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04B4-B532-474C-BE6C-6E5683A1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86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4E72-9E95-4CE5-8043-84EDE0C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5656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B8B-F9F5-4B17-84EE-B48D99B5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8000" y="4186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DB13-CD4E-4B26-B6FB-A12E8954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86080"/>
            <a:ext cx="775656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8A48-DEA7-4E76-B586-A4C9B1C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5656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86080"/>
            <a:ext cx="775656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DEB8-43B4-4D4B-8F5A-BEABA0FB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86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8000" y="4186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FBCA-6DB6-48CC-88B5-006E3ADE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95840" y="1981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18440" y="1981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86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95840" y="4186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18440" y="4186080"/>
            <a:ext cx="249732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AA61-88C1-4F3C-8B56-CD3864F5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5656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E7E-ABAD-4E89-BAC8-AC48F1FE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8CF-7F08-4DA0-879A-86109E5A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AEE-FE3D-4E54-BB4E-46FFB1EC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310680"/>
            <a:ext cx="7756560" cy="65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75E-9CAA-4453-8E9E-EC1BCCD2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86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892-EF9F-4D0B-839C-6204651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48000" y="4186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F5A-88C0-4D87-B897-E16DA3A9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8000" y="1981080"/>
            <a:ext cx="378504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86080"/>
            <a:ext cx="775656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D5A-937B-4AB9-AA5D-466978B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200" y="-1149480"/>
            <a:ext cx="1047240" cy="9146880"/>
            <a:chOff x="7200" y="-1149480"/>
            <a:chExt cx="1047240" cy="9146880"/>
          </a:xfrm>
        </p:grpSpPr>
        <p:grpSp>
          <p:nvGrpSpPr>
            <p:cNvPr id="1" name=""/>
            <p:cNvGrpSpPr/>
            <p:nvPr/>
          </p:nvGrpSpPr>
          <p:grpSpPr>
            <a:xfrm>
              <a:off x="158040" y="-1149480"/>
              <a:ext cx="748080" cy="9146880"/>
              <a:chOff x="158040" y="-1149480"/>
              <a:chExt cx="748080" cy="914688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163800" y="-1149480"/>
                <a:ext cx="730440" cy="91044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163800" y="1110600"/>
                <a:ext cx="730440" cy="661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163800" y="572760"/>
                <a:ext cx="730440" cy="663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163800" y="-944640"/>
                <a:ext cx="730440" cy="3981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163800" y="169560"/>
                <a:ext cx="730440" cy="4600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163800" y="-236520"/>
                <a:ext cx="730440" cy="5680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65960" y="-647640"/>
                <a:ext cx="740160" cy="493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157680" y="4104360"/>
                <a:ext cx="730440" cy="661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57680" y="3562920"/>
                <a:ext cx="730440" cy="663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157680" y="2048760"/>
                <a:ext cx="730440" cy="3981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157680" y="3161160"/>
                <a:ext cx="730440" cy="4600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157680" y="2756520"/>
                <a:ext cx="730440" cy="5662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158400" y="2345760"/>
                <a:ext cx="740160" cy="4946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163800" y="5477040"/>
                <a:ext cx="730440" cy="661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63800" y="4937400"/>
                <a:ext cx="730440" cy="663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57680" y="6413400"/>
                <a:ext cx="730440" cy="3981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04200" y="7403400"/>
                <a:ext cx="455400" cy="732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57680" y="7122960"/>
                <a:ext cx="730440" cy="5662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158400" y="6710040"/>
                <a:ext cx="740160" cy="4950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097080" y="3099240"/>
              <a:ext cx="6851520" cy="6433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6400" y="3274560"/>
              <a:ext cx="6850080" cy="291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565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5656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8889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80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C0F42-3B56-47A6-8473-B9C60950CF3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39320" cy="1055880"/>
            <a:chOff x="-3600" y="2438280"/>
            <a:chExt cx="9139320" cy="1055880"/>
          </a:xfrm>
        </p:grpSpPr>
        <p:grpSp>
          <p:nvGrpSpPr>
            <p:cNvPr id="65" name=""/>
            <p:cNvGrpSpPr/>
            <p:nvPr/>
          </p:nvGrpSpPr>
          <p:grpSpPr>
            <a:xfrm>
              <a:off x="-3240" y="2479680"/>
              <a:ext cx="9131400" cy="999360"/>
              <a:chOff x="-3240" y="2479680"/>
              <a:chExt cx="9131400" cy="99936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3120" y="-1578600"/>
                <a:ext cx="975960" cy="911376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2680" y="2647080"/>
                <a:ext cx="975960" cy="662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040" y="2646360"/>
                <a:ext cx="975960" cy="663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1840" y="2778840"/>
                <a:ext cx="975960" cy="3985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9560" y="2747880"/>
                <a:ext cx="975960" cy="4604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2000" y="2693880"/>
                <a:ext cx="975960" cy="5684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2280" y="2737800"/>
                <a:ext cx="988920" cy="4935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7120" y="2639160"/>
                <a:ext cx="975960" cy="662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7480" y="2638440"/>
                <a:ext cx="975960" cy="663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7720" y="2770920"/>
                <a:ext cx="975960" cy="3985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4000" y="2739960"/>
                <a:ext cx="975960" cy="4604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6080" y="2686680"/>
                <a:ext cx="975960" cy="566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8520" y="2729160"/>
                <a:ext cx="988560" cy="4953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2280" y="2647080"/>
                <a:ext cx="975960" cy="662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2640" y="2646360"/>
                <a:ext cx="975960" cy="663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7320" y="2770920"/>
                <a:ext cx="975960" cy="3985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240" y="2479680"/>
                <a:ext cx="455760" cy="9777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4240" y="2686680"/>
                <a:ext cx="975960" cy="566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5600" y="2729160"/>
                <a:ext cx="988560" cy="4950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39320" cy="64620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0400"/>
              <a:ext cx="9137880" cy="29376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195560"/>
            <a:ext cx="77565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80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C4260B-EDBB-4B7F-A5F1-A14B855758C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376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../../../../../Check-list-delivrance-depot-UV.pdf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hemovigilance-cncrh.fr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03120"/>
            <a:ext cx="777240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26b9a"/>
                </a:solidFill>
                <a:latin typeface="Tahoma"/>
              </a:rPr>
              <a:t>Organisation pratique de la gestion et de l’utilisation d’un dépôt de PSL d’urgence vit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r G Daurat C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2207880"/>
            <a:ext cx="716292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Gestion du Fonctionnement du dépô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24188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67608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5865a4"/>
                </a:solidFill>
                <a:latin typeface="Tahoma"/>
              </a:rPr>
              <a:t>Organisation du dépôt = rigueur!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tilisé toujours dans l’urgence, le stress et la précipitation: pas de place pour l’imprév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out doit être prêt à tout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ucu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ysfonctionnement dans la conservation ou l’approvisi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ucun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negligence dans la surveil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ucu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âtonnement à l’utilisation, tout le personnel est for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ucun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urprise à l’utilisation!!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2880" y="115560"/>
            <a:ext cx="776916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1) Documentation qualité : tout est prév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200" y="1405080"/>
            <a:ext cx="776916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72720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2720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t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72720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lification et maintenance du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72720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cédure de surveillance quotidi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72720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cédures de nettoyage des locaux et de décontamination du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72720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cédure de gestion des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72720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cédure de réception des P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2720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cédure de délivrance réapprovisionnement,  traçabi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0000" y="311040"/>
            <a:ext cx="7682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2) Formation du personn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decin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decins prescrip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gnants habilités à délivrer les P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-médicaux pour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nel de l’EFS pour réapprovisi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3) Maintenance Quotidien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2880" y="1599840"/>
            <a:ext cx="77691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otidienne: responsable désig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érifier disque tempé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érifier 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Émarger feuille de 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4) Maintenance périodiq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7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ériod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7j changer disque enregistreur (personnel désig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5 j renouveler les CGR (EFS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2-3 mois: décontamination (personnel désig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6mois-1 an: maintenance préventive (bioméd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 an: rapport d’activité et d’évaluation du dépôt, (responsable méd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5)Reception des PSL au dépô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280" y="1440000"/>
            <a:ext cx="776916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7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i: personne désignée de l'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7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and: rotation régulière par l’EFS ou utilisation du dépô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7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ér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ordereau 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ombre de CGR,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ce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empérature du frigo, position des b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racer la 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ettre le registre à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6) Utilisation du dépô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'est l'heure H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645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ahoma"/>
              </a:rPr>
              <a:t>Utilisation : Objectif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356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1) couvrir les bes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épondre aux besoins immédiats vi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 jamais être à cours de P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se de relais par l’EFS le plus vit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) préserver la ressource pour d’autr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 pas gaspiller les CG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épargner les  RH D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645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Principes de recours au dépô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médecin évalue le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délai maxi tolérabl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avant trans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 inférieur à délai de disponibilité de l’EFS, recours au dépô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 10 minutes la nuit -&gt; dép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 compatible avec délais EFS: recours obligatoire à l’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 15 minutes le jour -&gt; 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51814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67608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ahoma"/>
              </a:rPr>
              <a:t>Objectifs du dépôt urgence vita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L’objectif est le maintien en vie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68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se à disposition de CGR immédia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68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 l’attente de délivrance par l’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: maternité, hémorragies de déliv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 : urgences, bloc: hémorragies m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968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as de contrainte de groupe ou 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8960" y="645840"/>
            <a:ext cx="792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ahoma"/>
              </a:rPr>
              <a:t>Prescription: CGR, group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61892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édec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680" indent="-31356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ligatoire par écri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écrit immédiat, sinon retardé, mais attention prévoir le détail de cette procédure dégradé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crit  CG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68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crit double déter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 deux prélèvements AVANT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 deux personnes différentes (dont lui même le cas éché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Prescription CG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30120" y="1618920"/>
            <a:ext cx="7769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Oblig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ur ordonnance sign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Mention extrême u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éciser CG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éciser le RH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éciser le Nomb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c8bc0"/>
                </a:solidFill>
                <a:latin typeface="Tahoma"/>
              </a:rPr>
              <a:t>Essayer de fractionner les pr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c8bc0"/>
                </a:solidFill>
                <a:latin typeface="Tahoma"/>
              </a:rPr>
              <a:t>Malades médicaux : Rarement urg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Economiser O-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urquo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c8bc0"/>
                </a:solidFill>
                <a:latin typeface="Tahoma"/>
              </a:rPr>
              <a:t>Femmes 0-50 ans RH inconnu : RH D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c8bc0"/>
                </a:solidFill>
                <a:latin typeface="Tahoma"/>
              </a:rPr>
              <a:t>Malades connus RHD - : RH D – si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c8bc0"/>
                </a:solidFill>
                <a:latin typeface="Tahoma"/>
              </a:rPr>
              <a:t>Tous les autres (env 70%)-&gt;RH D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676080"/>
            <a:ext cx="80312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ahoma"/>
              </a:rPr>
              <a:t>Délivrance: pas d’improvisation!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3280" indent="-323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Personnel différent de celui qui s'occupe du ma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niquement par personnel h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ccès à la clef connu par ce personn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pas de surpr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erte de l’EFS immédiate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dès pr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4554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Délivrance : de la méthode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371600"/>
            <a:ext cx="77724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céder au dép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élivrer les PS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éapprovis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-20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che de réapprovisionnement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mise à l’EFS immédiate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c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-20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écriture sur le regi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3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oir l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Check-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3c8bc0"/>
                </a:solidFill>
                <a:latin typeface="Tahoma"/>
              </a:rPr>
              <a:t>1) Accès au dépô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916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ésenter la prescription aux personnels habilités du dépô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bsence de prescription écrite: appel du prescrip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endre la clef au vu de la pr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ppel d’urgence à l’EFS, dès qu'on prend la clef (cas des sites EFS en astrei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3c8bc0"/>
                </a:solidFill>
                <a:latin typeface="Tahoma"/>
              </a:rPr>
              <a:t>1) Accès au dépô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916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ésenter la prescription aux personnels habilités du dépô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bsence de prescription écrite: appel du prescrip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endre la clef au vu de la pr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ppel d’urgence à l’EFS, dès qu'on prend la clef (cas des sites EFS en astrei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2) Prendre les CGR dans le fri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9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érifier groupe O et RH D pres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uper le scell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ssayer de prendre au fur et à me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tout CGR non utilisé sera détru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 consensus sur RhD négatif non respecté, demander au prescripteur s'il souhaite réellement s'en éc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3) Assurer la suite de l’approvisionnement en PS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16800" indent="-316800">
              <a:lnSpc>
                <a:spcPct val="7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ansmission de demande de réapprovisionnement à l’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172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fait c’est la prescription d’urgence vitale avec les numéros des PSL utilisé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rt aussi à traçabil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800" indent="0">
              <a:lnSpc>
                <a:spcPct val="77000"/>
              </a:lnSpc>
              <a:spcBef>
                <a:spcPts val="700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7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érification de transmission des tubes au labo pour groupage RAI d’u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172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BO en 20 ‘ (pour passer en iso grou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172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AI en 1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4) Tra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Noter sur le regi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dentification du soignant, du prescripteur, du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ate, h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méro de PSL p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venir du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isser double de pr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67608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ahoma"/>
              </a:rPr>
              <a:t>Objectifs du dépôt urgence vita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L’objectif est le maintien en vie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68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se à disposition de CGR immédia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68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 l’attente de délivrance par l’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: maternité, hémorragies de déliv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-259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 : urgences, bloc: hémorragies m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9680" indent="-3135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as de contrainte de groupe ou 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5) Relais par l’EF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ès disponibilité de l’EFS: prendre les PSL à l’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rganiser transport d’u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uivant degré d’urgence et  connaissance groupe RAI du mal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approvisionner dépô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ir procédure détaillée de transport,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640" y="2700000"/>
            <a:ext cx="776736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ahoma"/>
              </a:rPr>
              <a:t>Le rôle du médecin respons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2880" y="355680"/>
            <a:ext cx="77677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Le rôle du médecin respons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77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660960" indent="-6609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Organisation :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5400" indent="-549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érifier adéquation dépôt/besoins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5400" indent="-549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ciper à la conception du dép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5400" indent="-549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ciper à rédaction d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960" indent="-6609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ssurer la communication avec les prescripteurs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5400" indent="-549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réhension des degrés d'u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5400" indent="-5490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réhension des règles de prescription : écrite, fractionnée, épargne du O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2880" y="355680"/>
            <a:ext cx="77677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Le rôle du médecin respons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7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627120" indent="-6271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ination avec le cadre respons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521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déquation d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521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on fonctionnement au quotid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521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claration des in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articiper à l'habilitation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ffectuer une évaluation réguli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521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 la qualité de l'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521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u respect effectif d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= rapport annuel standard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2880" y="355680"/>
            <a:ext cx="77677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Le rapport annuel standardis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2880" y="1618920"/>
            <a:ext cx="77677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112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Objectif du ra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1120" indent="-6746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ér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formité de l'organisation du dépô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à la réglemen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à la convention avec l'EF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x bonnes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'adéquation du dépôt aux besoins de l'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1120" indent="-6746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Présenter les résultats de l'évaluation du foncti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52640" y="2700000"/>
            <a:ext cx="776736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ahoma"/>
              </a:rPr>
              <a:t>La suite de la form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673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Le stage pratique à l'EF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52640" y="1251000"/>
            <a:ext cx="776736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67800" indent="-6678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quivalent à 4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7800" indent="-6678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le site EFS de votr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60160" indent="-55476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ec un médecin de distribution 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60160" indent="-55476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x dates et heures conven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7800" indent="-6678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bjectif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60160" indent="-55476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ude du système qualité de déliv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60160" indent="-55476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'immuno-hématologie en pr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60160" indent="-55476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'approvisionnement des ES en pr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7800" indent="-6678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ttestation de stage envoyée à l'Ad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2880" y="355680"/>
            <a:ext cx="77677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Les travaux pratiques de la formation : dans votre 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772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647640" indent="-6476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arenR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apport annuel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arenR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vision de la documentation qualité : grille_recevabilite_annexes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arenR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valuation des connaissances des personnels h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semble des documents disponibles sur </a:t>
            </a:r>
            <a:r>
              <a:rPr b="0" lang="fr-FR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www.hemovigilance-cncrh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94560" indent="-4374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ubrique votre région, Languedoc Rouss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2880" y="355680"/>
            <a:ext cx="77677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Calendrier prévisionn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772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4640" indent="-6746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trois documents remplis sont à retourner à l'Adhet avant la deuxième partie de la 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5920" y="1907640"/>
            <a:ext cx="77677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ahoma"/>
              </a:rPr>
              <a:t>Synthèse pratique sur l'organisation et le fonctionnement d'un dépôt d'urgence vit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0788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Localisation, équipement, conten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24188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2880" y="31104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Localis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plus proche possible des utilis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ible H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illance permanente par le personnel soignant h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ibilité garantie aux utilis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87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égé des dégradations et utilisations “inapproprié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67608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626b9a"/>
                </a:solidFill>
                <a:latin typeface="Tahoma"/>
              </a:rPr>
              <a:t>Enceinte frigorifiqu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75898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mpérature de conservation +2° à +6°, pour CG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ermant à cle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fi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tée de mesure de température et enregistrement conti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tée d ’alarme avec seuil haut et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arme audible, centralisée et/ou déport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67608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626b9a"/>
                </a:solidFill>
                <a:latin typeface="Tahoma"/>
              </a:rPr>
              <a:t>Gestion du matérie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ceint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xclusivemen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éservée aux PSL du dép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réguliè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édure d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che de suivi du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écontamination régul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stion des anomalies de fonctionnement, avec solution de se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645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ahoma"/>
              </a:rPr>
              <a:t>Contenu du dépô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GR uniquement groupe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H D + et RH D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cel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registrement continu de température des PSL en plus de celle de l’enc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mbre défini par la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d</cp:lastModifiedBy>
  <dcterms:modified xsi:type="dcterms:W3CDTF">2006-05-23T07:55:49Z</dcterms:modified>
  <cp:revision>31</cp:revision>
  <dc:subject/>
  <dc:title>Formation à la gestion d’un dépôt de PSL d’urgence vitale</dc:title>
</cp:coreProperties>
</file>